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D33-D96C-42AD-8F3E-D4338CDD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0A1-851C-411C-BAD5-7257B230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7AE-849E-45D9-AC94-8A037B1B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870-B5CA-4902-946C-731369C3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F65-762B-412E-94CD-181A44BD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790-13AC-4941-83D5-69EFC5E6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738-B17A-4C88-A2B2-163F8061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CF1-406E-4E23-BC56-952A99A8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668-D6CA-43C0-B841-5254C381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5FF-02C8-4117-9DA0-C36C93CE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343-4D34-4655-B091-4BB0DE4B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7FC-5EFD-4139-9C28-1001FCB9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1B67-663D-47A6-A80A-D2B0A6AD4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52680" y="2060640"/>
            <a:ext cx="66913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OR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CULTU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MMIGRAZIONE ED EMIG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“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I CON VOI…VOI CON NOI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92200" y="5950080"/>
            <a:ext cx="42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LANO 13 OTTOBR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uditorium “E:Ferm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MUNE DI CELANO (AQ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DIREZIONE DIDATTICA CELANO -  IST.ONNICOMPRENSIVO CEL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CUOLA PARITARIA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“Beato Tommaso”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– ASS. RINDERTIMI AVEZZ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8:03:15Z</dcterms:created>
  <dc:creator>user</dc:creator>
  <dc:description/>
  <dc:language>en-US</dc:language>
  <cp:lastModifiedBy>user</cp:lastModifiedBy>
  <dcterms:modified xsi:type="dcterms:W3CDTF">2012-10-09T19:11:36Z</dcterms:modified>
  <cp:revision>5</cp:revision>
  <dc:subject/>
  <dc:title>Diapositiva 1</dc:title>
</cp:coreProperties>
</file>