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473-285A-4D89-B89F-BA320B8F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9D4-BCDA-4A29-956C-50CF19C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6A6-DB85-4CD3-AB7F-C4CDA0D4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D20-E5F0-428E-964D-96B5BE12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52B-5C0F-4D35-BFCC-81698926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C4C-D275-4C9E-B456-257F449B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093-1F32-4CFE-A221-F272CA57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B51-2E4B-4B4A-8318-29FD270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A2C-30F3-4D1E-8CE2-82F0982F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91F-F719-4016-BFE6-B4CF387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759-5594-461C-89ED-81C6180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1AF-16A4-4CBA-B7E4-C5C025B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A705-34B0-492F-81D7-1C51CA9B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COMUNE DI CELANO(AQ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REZIONE DIDATTICA CELANO- IST. ONNICOMPRENSIVO CE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SCUOLA PARITARIA “ Beato Tommaso” CE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ASS. RINDERTIMI AVEZZ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7360" y="2916360"/>
            <a:ext cx="477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GIOR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NTERCUL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MMIGRAZIONE ED E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NOI CON VOI…VOI CON NO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UDITORIUM CE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ABATO 13 OTTOBRE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RE 1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87360" y="7688160"/>
            <a:ext cx="86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Gli alunni italiani e stranieri, le loro famiglie, le autorità civ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 religiose, porteranno testimonianze di vita attrave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roiezioni di filmati, riflessioni, can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musiche….coreografie v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84640" y="874872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gresso lib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2:12:53Z</dcterms:created>
  <dc:creator>user</dc:creator>
  <dc:description/>
  <dc:language>en-US</dc:language>
  <cp:lastModifiedBy>user</cp:lastModifiedBy>
  <dcterms:modified xsi:type="dcterms:W3CDTF">2012-10-09T19:13:01Z</dcterms:modified>
  <cp:revision>4</cp:revision>
  <dc:subject/>
  <dc:title>Diapositiva 1</dc:title>
</cp:coreProperties>
</file>