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0B1-790B-4ED1-B912-60D47219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1E6-3EAB-45BE-83AD-485E301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B97-9B81-4D63-B3C3-DF5E9E75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0AD-9B4E-4A22-93B1-83549AE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1CF-F529-4A3C-B0BC-AEEB30F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7DA-4C94-497E-97AF-02B8A675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500-24D5-4CCF-9614-3A19966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452-176D-40CD-ACB4-AC96BE01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5ED-2748-434B-BE59-24A1F03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2B2-AF79-453B-BA00-39FDB8E8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6B9-DB4F-4040-B16F-37D24D4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848-53D2-4F9D-9445-F827690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AE0-00F9-4A93-A888-72948A31A08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858000" cy="81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ienza under 18 Pescara - Quarta Edizione - maggio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 scuola del success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(formativo)per tutti deve creare in classe le condizioni che rendano possibile, a ciascun alunno , di avere successo nei processi di apprend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conoscenze e competenze che si dovrebbero acquisire negli anni di scuola sono fondamentali per proseguire gli studi , ma purtroppo sono spesso disattese. Occorre quindi vedere “le discipline” ed in particolare le scienze e la matematica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nche fuori dalla routine lavagna- quaderno-libro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cambiando il rapporto con il sapere dandogli un senso e “mettendolo in azion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fare? Partendo da una riflessione  sull’apprendimento che diviene il filo conduttore e la motivazione di Su18 stesso.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cienza under 18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è nata per trovare la soluzione ad un problema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e dare agli studenti un ruolo da protagonisti e uno spazio in cui potessero comunicare i lavori scientifici (tavolo della comunicazione) realizzati a scuola (tavolo della didattica) durante l'anno scolastico. Quindi 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re spazio "scientifico" agli studenti per : mettere in comune esperienze diverse, far incontrare alunni e docenti di scuole dive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Quest’anno nel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quarta edizione di "Scienza under 18 Pescara"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i progetti saranno presentati sotto diverse modalità: Exhibit - progetti interattivi - Sezione multimediale- Fotografia scientifica- Mostre scientifiche – Robotica - Giornalismo scienti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a intera zona del Parco sarà dedicata alle energie sostenibili e molti lavori sono dedicati al rispetto dell’ambiente . Quello dell’ambiente è stato ed è per Su18 Pescara un nucleo fondante delle manifesta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i ringraz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omune di Pescara  nella persona dell’Assessore Comune di Pescara  Prof.Gianni Sant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omitato AIRC Abruzzo e Molise nella Persona della Dott.ssa Maria Francesca   De C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ssociazione Miladonn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nffas Onlus - Associazione Nazionale Famiglie di Persone con Disabilità Intellettiva e/o Relazionale, per l’ospitalità nella propria se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 L.A.A.D., Lega Abruzzese Anti Droga, per la fornitura  delle proprie attrezzature nel parco e condivisione proge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ssociazione “Donne in camp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RAEN per la fornitura dei gaz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ringrazia il Dirigente Scolastico della Rossetti-Mazzini Prof.ssa Gabriella Consolaz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FO: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rossettimazzinipescara.it o scrivere a su18pescara@libero.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el. 085 73351 /085 4212852           Fax. 085 73351 / 085.42128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ordinamento  scientif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la Antonio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arlaantonioli@virgilio.i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rigente Scolastico Gabriella Consolazi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rigente@rossettimazzinipescara.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4410000" y="87771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1:07Z</dcterms:created>
  <dc:creator>Utente Windows</dc:creator>
  <dc:description/>
  <dc:language>en-US</dc:language>
  <cp:lastModifiedBy>Giulia</cp:lastModifiedBy>
  <dcterms:modified xsi:type="dcterms:W3CDTF">2012-04-22T15:02:22Z</dcterms:modified>
  <cp:revision>40</cp:revision>
  <dc:subject/>
  <dc:title>Diapositiva 1</dc:title>
</cp:coreProperties>
</file>