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2BF-B33C-494A-A3E6-E380078F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492-46EB-4152-BB97-7065D4F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C91-5D31-494F-91D9-8E6F2731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F5F-25C5-4957-932A-FCA4029B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9A8-DD68-45FE-8F55-74D84F87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E56-22E6-44E1-8982-A77D032B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83C-43A9-463C-BFD0-DA56628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321-3812-476E-9B2B-9024A944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B40-C00D-4C59-A769-0BB199CC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E48-57F2-430C-8C7C-E877F4A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A2F-BFC0-4DE8-896A-4D4B111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905-9DF0-4BF3-BCC0-349E91F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227-96A4-4E81-99B3-47138DC45DD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274680"/>
            <a:ext cx="81532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66"/>
                </a:solidFill>
                <a:latin typeface="Arial"/>
              </a:rPr>
              <a:t>I quadri di riferi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66"/>
                </a:solidFill>
                <a:latin typeface="Arial"/>
              </a:rPr>
              <a:t>delle p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magine 9" descr="cornice-ambra--cornici-porta-foto--cornici-vetrofusione--ambra-212814z0.jpg"/>
          <p:cNvPicPr/>
          <p:nvPr/>
        </p:nvPicPr>
        <p:blipFill>
          <a:blip r:embed="rId1"/>
          <a:stretch/>
        </p:blipFill>
        <p:spPr>
          <a:xfrm>
            <a:off x="571680" y="1571760"/>
            <a:ext cx="2995560" cy="278604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10" descr="cornice-corallo--cornici-porta-foto--cornici-vetrofusione--corallo-212816z0.jpg"/>
          <p:cNvPicPr/>
          <p:nvPr/>
        </p:nvPicPr>
        <p:blipFill>
          <a:blip r:embed="rId2"/>
          <a:stretch/>
        </p:blipFill>
        <p:spPr>
          <a:xfrm>
            <a:off x="5572080" y="3395520"/>
            <a:ext cx="3262320" cy="303372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5"/>
          <p:cNvSpPr/>
          <p:nvPr/>
        </p:nvSpPr>
        <p:spPr>
          <a:xfrm>
            <a:off x="142920" y="62866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Chieti, 31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6"/>
          <p:cNvSpPr/>
          <p:nvPr/>
        </p:nvSpPr>
        <p:spPr>
          <a:xfrm>
            <a:off x="5357880" y="62866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A cura di Ettore D’Ora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03560" y="2643120"/>
            <a:ext cx="2897280" cy="289728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4"/>
          <p:cNvSpPr/>
          <p:nvPr/>
        </p:nvSpPr>
        <p:spPr>
          <a:xfrm>
            <a:off x="1714680" y="28584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Quale competenza matema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03560" y="2643120"/>
            <a:ext cx="2897280" cy="2897280"/>
          </a:xfrm>
          <a:prstGeom prst="rect">
            <a:avLst/>
          </a:prstGeom>
          <a:ln w="0">
            <a:noFill/>
          </a:ln>
        </p:spPr>
      </p:pic>
      <p:sp>
        <p:nvSpPr>
          <p:cNvPr id="108" name="Oval 6"/>
          <p:cNvSpPr/>
          <p:nvPr/>
        </p:nvSpPr>
        <p:spPr>
          <a:xfrm>
            <a:off x="1643040" y="2714760"/>
            <a:ext cx="5715000" cy="294156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Una compete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particolarmente compl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5"/>
          <p:cNvSpPr/>
          <p:nvPr/>
        </p:nvSpPr>
        <p:spPr>
          <a:xfrm>
            <a:off x="1714680" y="28584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Quale competenza matema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asellaDiTesto 1"/>
          <p:cNvSpPr/>
          <p:nvPr/>
        </p:nvSpPr>
        <p:spPr>
          <a:xfrm>
            <a:off x="1714680" y="28584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Quale competenza matema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03560" y="2643120"/>
            <a:ext cx="2897280" cy="289728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5"/>
          <p:cNvSpPr/>
          <p:nvPr/>
        </p:nvSpPr>
        <p:spPr>
          <a:xfrm>
            <a:off x="285840" y="1857240"/>
            <a:ext cx="8643960" cy="47865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In matematica non basta aver costruito un concetto, occorre an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aperlo usare 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r effettuare calcoli o dare risposta ad eserc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combinarlo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 con altri e con strategie opportune per risolvere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saper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piegare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 a se stessi ed agli altri il concetto costruito e la strategia segu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saper fare uso sapiente delle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trasformazioni semiotiche 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che permettono di passare da una rappresentazione all’altra               (</a:t>
            </a:r>
            <a:r>
              <a:rPr b="1" i="1" lang="it-IT" sz="2800" spc="-1" strike="noStrike">
                <a:solidFill>
                  <a:srgbClr val="ff6600"/>
                </a:solidFill>
                <a:latin typeface="Arial"/>
              </a:rPr>
              <a:t>Fadiño Pinilla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468360" y="549360"/>
            <a:ext cx="3389400" cy="166536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  <a:ea typeface="Lucida Sans Unicode"/>
              </a:rPr>
              <a:t>Matematica </a:t>
            </a:r>
            <a:r>
              <a:rPr b="1" i="1" lang="it-IT" sz="2400" spc="-1" strike="noStrike">
                <a:solidFill>
                  <a:srgbClr val="0070c0"/>
                </a:solidFill>
                <a:latin typeface="Arial"/>
                <a:ea typeface="Lucida Sans Unicode"/>
              </a:rPr>
              <a:t>“uti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4857840" y="533520"/>
            <a:ext cx="3886200" cy="168120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b050"/>
                </a:solidFill>
                <a:latin typeface="Arial"/>
                <a:ea typeface="Lucida Sans Unicode"/>
              </a:rPr>
              <a:t>Matematica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b050"/>
                </a:solidFill>
                <a:latin typeface="Arial"/>
                <a:ea typeface="Lucida Sans Unicode"/>
              </a:rPr>
              <a:t>strumento di pens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785960" y="3916440"/>
            <a:ext cx="5715000" cy="222732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Lucida Sans Unicode"/>
              </a:rPr>
              <a:t>Matematica come </a:t>
            </a:r>
            <a:r>
              <a:rPr b="1" i="1" lang="it-IT" sz="2400" spc="-1" strike="noStrike">
                <a:solidFill>
                  <a:srgbClr val="ff6600"/>
                </a:solidFill>
                <a:latin typeface="Arial"/>
                <a:ea typeface="Lucida Sans Unicode"/>
              </a:rPr>
              <a:t>disci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6600"/>
                </a:solidFill>
                <a:latin typeface="Arial"/>
                <a:ea typeface="Lucida Sans Unicode"/>
              </a:rPr>
              <a:t>con un proprio speci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6600"/>
                </a:solidFill>
                <a:latin typeface="Arial"/>
                <a:ea typeface="Lucida Sans Unicode"/>
              </a:rPr>
              <a:t>statuto epistem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1"/>
          <p:cNvSpPr/>
          <p:nvPr/>
        </p:nvSpPr>
        <p:spPr>
          <a:xfrm>
            <a:off x="928800" y="2541600"/>
            <a:ext cx="7358040" cy="26535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Arial"/>
              </a:rPr>
              <a:t>Si riconosce quando un individuo vede, interpreta e si comporta nel mondo in senso matematico; si manifesta nell’atteggiamento analitico o sintetico con il quale si affrontano le situazioni probl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2"/>
          <p:cNvSpPr/>
          <p:nvPr/>
        </p:nvSpPr>
        <p:spPr>
          <a:xfrm>
            <a:off x="1071720" y="57780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b050"/>
                </a:solidFill>
                <a:latin typeface="Arial"/>
              </a:rPr>
              <a:t>Matematica come strumento di pens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C:\Users\Utente\Desktop\quadri\matematica.jpg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24" name="CasellaDiTesto 1"/>
          <p:cNvSpPr/>
          <p:nvPr/>
        </p:nvSpPr>
        <p:spPr>
          <a:xfrm>
            <a:off x="928800" y="2541600"/>
            <a:ext cx="7358040" cy="30801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Disciplina come scienza costituita, oggetto proprio, specifico di conoscenza concettuale, frutto cioè di interiorizzazione dell’esperienza e di riflessione critica, non di addestramento “meccanico” o di apprendimento mnem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2"/>
          <p:cNvSpPr/>
          <p:nvPr/>
        </p:nvSpPr>
        <p:spPr>
          <a:xfrm>
            <a:off x="1071720" y="5778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Matematica come discipl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2"/>
          <p:cNvSpPr/>
          <p:nvPr/>
        </p:nvSpPr>
        <p:spPr>
          <a:xfrm>
            <a:off x="1143000" y="42876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Ambiti di valutazi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delle pr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10"/>
          <p:cNvSpPr/>
          <p:nvPr/>
        </p:nvSpPr>
        <p:spPr>
          <a:xfrm>
            <a:off x="1071720" y="5778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Le due dimensioni dei ques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e 11"/>
          <p:cNvSpPr/>
          <p:nvPr/>
        </p:nvSpPr>
        <p:spPr>
          <a:xfrm>
            <a:off x="357120" y="2143080"/>
            <a:ext cx="4071960" cy="2286000"/>
          </a:xfrm>
          <a:prstGeom prst="ellipse">
            <a:avLst/>
          </a:prstGeom>
          <a:solidFill>
            <a:srgbClr val="ffffcc">
              <a:alpha val="85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Arial"/>
                <a:ea typeface="Lucida Sans Unicode"/>
              </a:rPr>
              <a:t>I contenuti coinvo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e 12"/>
          <p:cNvSpPr/>
          <p:nvPr/>
        </p:nvSpPr>
        <p:spPr>
          <a:xfrm>
            <a:off x="4714920" y="3643200"/>
            <a:ext cx="4071960" cy="2286000"/>
          </a:xfrm>
          <a:prstGeom prst="ellipse">
            <a:avLst/>
          </a:prstGeom>
          <a:solidFill>
            <a:srgbClr val="ffffcc">
              <a:alpha val="85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, le capacità, le decisioni richi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ttore 2 14"/>
          <p:cNvCxnSpPr/>
          <p:nvPr/>
        </p:nvCxnSpPr>
        <p:spPr>
          <a:xfrm flipH="1">
            <a:off x="3142800" y="1284840"/>
            <a:ext cx="929520" cy="85788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36" name="Connettore 2 16"/>
          <p:cNvCxnSpPr/>
          <p:nvPr/>
        </p:nvCxnSpPr>
        <p:spPr>
          <a:xfrm>
            <a:off x="6286680" y="1500120"/>
            <a:ext cx="786240" cy="200088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928880" y="428760"/>
            <a:ext cx="557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CONTENUTI MATE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1303200"/>
          <a:ext cx="8209080" cy="471816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2143080"/>
                <a:gridCol w="2104920"/>
              </a:tblGrid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dicazioni per il currico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CSE – PISA (idee chia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CT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IM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(domini di contenu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Num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Quant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umeri e oper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Num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pazio – fig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pazio e fo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Geomet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Geomet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elazioni e fun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ambiamenti e rel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lge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Alge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isure, dati e previs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ncertez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nalisi dei dati e probabil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Visualizzazione dati e c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9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857240" y="457200"/>
            <a:ext cx="5572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CONTENUTI MATEMA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300320"/>
          <a:ext cx="7993080" cy="45799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UOVO OBBLIGO D’ISTR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4000"/>
                      </a:srgbClr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Utilizzare le tecniche e le procedure del calcolo aritmetico ed algebrico, rappresentandole anche sotto forma gra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4000"/>
                      </a:srgbClr>
                    </a:solidFill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Confrontare ed analizzare figure geometriche, individuando invarianti e rel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4000"/>
                      </a:srgbClr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Individuare le strategie appropriate per la soluzione di proble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94000"/>
                      </a:srgbClr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Analizzare dati e interpretarli sviluppando deduzioni e ragiona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sugli stessi anche con l’ausilio di rappresentazioni grafiche, us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consapevolmente gli strumenti di calcolo e le potenzialità offerte 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applicazioni specifiche di tipo informa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9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magine 8" descr="cornice-ambra--cornici-porta-foto--cornici-vetrofusione--ambra-212814z0.jpg"/>
          <p:cNvPicPr/>
          <p:nvPr/>
        </p:nvPicPr>
        <p:blipFill>
          <a:blip r:embed="rId1"/>
          <a:stretch/>
        </p:blipFill>
        <p:spPr>
          <a:xfrm>
            <a:off x="571680" y="1571760"/>
            <a:ext cx="299556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Immagine 9" descr="cornice-corallo--cornici-porta-foto--cornici-vetrofusione--corallo-212816z0.jpg"/>
          <p:cNvPicPr/>
          <p:nvPr/>
        </p:nvPicPr>
        <p:blipFill>
          <a:blip r:embed="rId2"/>
          <a:stretch/>
        </p:blipFill>
        <p:spPr>
          <a:xfrm>
            <a:off x="5572080" y="3395520"/>
            <a:ext cx="3262320" cy="3033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42920" y="1000080"/>
            <a:ext cx="8858160" cy="564372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PER ENUNCIARE LO STATUTO EPISTEMOLOGICO CONDIVISO DELLA DISCIPLINA E QUINDI LE TEORIE DI RIFER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00"/>
                </a:solidFill>
                <a:latin typeface="Arial"/>
              </a:rPr>
              <a:t>PER DEFINIRE GLI OGGETTI DELLA VALUT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PER POTER VERIFICARE LA CONGRUENZA FRA LA PROVA E IL SUO OGGE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00"/>
                </a:solidFill>
                <a:latin typeface="Arial"/>
              </a:rPr>
              <a:t>PER POTER VERIFICARE LA CONGRUENZA FRA GLI STRUMENTI E I CRITERI ASSU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42960" y="214200"/>
            <a:ext cx="7772400" cy="48600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PERCHÉ DEI QUADRI DI RIFERIME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Nuovo-1"/>
          <p:cNvPicPr/>
          <p:nvPr/>
        </p:nvPicPr>
        <p:blipFill>
          <a:blip r:embed="rId1"/>
          <a:stretch/>
        </p:blipFill>
        <p:spPr>
          <a:xfrm>
            <a:off x="2428920" y="2638440"/>
            <a:ext cx="4276800" cy="3790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00040" y="1500120"/>
          <a:ext cx="8143920" cy="485784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MBITO DI CONTEN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GGETTI DI VALU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88000"/>
                      </a:srgbClr>
                    </a:solidFill>
                  </a:tcPr>
                </a:tc>
              </a:tr>
              <a:tr h="44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NUM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naturali e loro rappresentazione in base diec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ddizione e sottrazione fra numeri naturali. Moltiplicazione e divisione fra numeri natural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decimali e frazion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Frazioni equivalent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crittura posizionale dei numeri naturali e decimal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perazioni fra numeri decimal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oprietà delle operazion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ignificato delle parentesi in sequenze di operazion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oprietà dei numeri naturali: prece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uccessivo, pari dispari, doppio, metà…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perazioni con i numeri inter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alcolo approssima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otenze di numeri naturali e inter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prim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ultipli e divisor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apporti, percentuali e proporzion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decimali limitati e illimitati periodici (rappresentazione decimale e frazionaria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razional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perazioni con i numeri razional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umeri decimali non periodic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Text Box 4"/>
          <p:cNvSpPr/>
          <p:nvPr/>
        </p:nvSpPr>
        <p:spPr>
          <a:xfrm>
            <a:off x="1857240" y="457200"/>
            <a:ext cx="5572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UN ESEM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428760" y="304920"/>
            <a:ext cx="8458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 COGN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5800" y="1285920"/>
            <a:ext cx="7924680" cy="536328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1.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Conoscere e padroneggiare contenuti specifici della matematica (</a:t>
            </a:r>
            <a:r>
              <a:rPr b="1" i="1" lang="en-GB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oggetti matematici, proprietà, strutture...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2. Conoscere e padroneggiare algoritmi e procedure</a:t>
            </a:r>
            <a:r>
              <a:rPr b="1" lang="it-IT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(</a:t>
            </a:r>
            <a:r>
              <a:rPr b="1" i="1" lang="en-GB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in ambito aritmetico, geometrico...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28760" y="1143000"/>
            <a:ext cx="8358120" cy="480420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3. Conoscere e utilizzare diverse forme di rappresentazione e saper passare da una all'altra (verbale, scritta, simbolica, grafica, tabellare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4. </a:t>
            </a: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Saper risolvere problemi utilizzando gli strumenti della matematica (individuare e collegare informazioni utili, confrontare strategie di risoluzione, individuare schemi, esporre il procedimento risolutivo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28760" y="304920"/>
            <a:ext cx="8458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 COGN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57120" y="1285920"/>
            <a:ext cx="8358120" cy="409104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5. 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Riconoscere in contesto il carattere misurabile di oggetti e fenomeni e saper utilizzare strumenti (stimare una misura, individuare l’unità di misura appropriat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  <a:ea typeface="Lucida Sans Unicode"/>
              </a:rPr>
              <a:t>6.</a:t>
            </a: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Acquisire progressivamente forme tipiche del pensiero matematico (congetturare, verificare, giustificare, definire, generalizzare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28760" y="304920"/>
            <a:ext cx="8458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 COGN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228600" y="1077840"/>
            <a:ext cx="8458200" cy="30801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7. Utilizzare la matematica appresa per il trattamento quantitativo dell'informazione in ambito scientifico, tecnologico, economico e sociale (descrivere un fenomeno in termini quantitativi, interpretare una descrizione di un fenomeno con strumenti statistici o funzioni, costruire un modello.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8760" y="304920"/>
            <a:ext cx="8458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 COGN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28600" y="1077840"/>
            <a:ext cx="8458200" cy="39333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8. Saper riconoscere le forme nello spazio (riconoscere forme in diverse rappresentazioni, individuare relazioni tra forme, immagini o rappresentazioni visive, visualizzare oggetti tridimensionali a partire da una rappresentazione bidimensionale e, viceversa, rappresentare sul piano una figura solida, saper cogliere le proprietà degli oggetti e le loro relative posizioni, 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28760" y="304920"/>
            <a:ext cx="8458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  <a:ea typeface="Lucida Sans Unicode"/>
              </a:rPr>
              <a:t>I PROCESSI COGNI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:\Users\Utente\Desktop\quadri\numbers.jpg"/>
          <p:cNvPicPr/>
          <p:nvPr/>
        </p:nvPicPr>
        <p:blipFill>
          <a:blip r:embed="rId1"/>
          <a:stretch/>
        </p:blipFill>
        <p:spPr>
          <a:xfrm>
            <a:off x="2857680" y="1865160"/>
            <a:ext cx="3429000" cy="4849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609480" y="1600200"/>
            <a:ext cx="8229600" cy="162972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  <a:ea typeface="Lucida Sans Unicode"/>
              </a:rPr>
              <a:t>    </a:t>
            </a:r>
            <a:r>
              <a:rPr b="1" lang="it-IT" sz="2400" spc="-1" strike="noStrike">
                <a:solidFill>
                  <a:srgbClr val="0070c0"/>
                </a:solidFill>
                <a:latin typeface="Arial"/>
                <a:ea typeface="Lucida Sans Unicode"/>
              </a:rPr>
              <a:t>Le prove cercano di non appiattirsi sull’idea di contenuti minimi o irrinunciabili e cercano di esplorare alcuni aspetti didattici cr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304920" y="380880"/>
            <a:ext cx="8381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70c0"/>
                </a:solidFill>
                <a:latin typeface="Arial"/>
                <a:ea typeface="Lucida Sans Unicode"/>
              </a:rPr>
              <a:t>QUALCHE 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Nuovo-1"/>
          <p:cNvPicPr/>
          <p:nvPr/>
        </p:nvPicPr>
        <p:blipFill>
          <a:blip r:embed="rId1"/>
          <a:stretch/>
        </p:blipFill>
        <p:spPr>
          <a:xfrm>
            <a:off x="2428920" y="2638440"/>
            <a:ext cx="42768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afico 3" descr=""/>
          <p:cNvPicPr/>
          <p:nvPr/>
        </p:nvPicPr>
        <p:blipFill>
          <a:blip r:embed="rId1"/>
          <a:stretch/>
        </p:blipFill>
        <p:spPr>
          <a:xfrm>
            <a:off x="566640" y="706320"/>
            <a:ext cx="80838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727280" y="6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Il quadro di riferimento di ital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1571760" y="2643120"/>
            <a:ext cx="59292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0" descr="cornice-ambra--cornici-porta-foto--cornici-vetrofusione--ambra-212814z0.jpg"/>
          <p:cNvPicPr/>
          <p:nvPr/>
        </p:nvPicPr>
        <p:blipFill>
          <a:blip r:embed="rId1"/>
          <a:stretch/>
        </p:blipFill>
        <p:spPr>
          <a:xfrm>
            <a:off x="571680" y="1571760"/>
            <a:ext cx="299556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Immagine 11" descr="cornice-corallo--cornici-porta-foto--cornici-vetrofusione--corallo-212816z0.jpg"/>
          <p:cNvPicPr/>
          <p:nvPr/>
        </p:nvPicPr>
        <p:blipFill>
          <a:blip r:embed="rId2"/>
          <a:stretch/>
        </p:blipFill>
        <p:spPr>
          <a:xfrm>
            <a:off x="5572080" y="3395520"/>
            <a:ext cx="3262320" cy="3033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66"/>
                </a:solidFill>
                <a:latin typeface="Arial"/>
              </a:rPr>
              <a:t>I quadri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2571840" y="1285920"/>
            <a:ext cx="4071960" cy="178596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Lucida Sans Unicode"/>
              </a:rPr>
              <a:t>Idee chiave che guidano la progettazione delle 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428760" y="3929040"/>
            <a:ext cx="3357360" cy="250020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Arial"/>
                <a:ea typeface="Lucida Sans Unicode"/>
              </a:rPr>
              <a:t>Ambit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4786200" y="4000680"/>
            <a:ext cx="3714840" cy="250020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  <a:ea typeface="Lucida Sans Unicode"/>
              </a:rPr>
              <a:t>Criteri per la costruzione delle 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nettore 2 8" descr=""/>
          <p:cNvPicPr/>
          <p:nvPr/>
        </p:nvPicPr>
        <p:blipFill>
          <a:blip r:embed="rId3"/>
          <a:stretch/>
        </p:blipFill>
        <p:spPr>
          <a:xfrm>
            <a:off x="2511360" y="3103560"/>
            <a:ext cx="1305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Connettore 2 9" descr=""/>
          <p:cNvPicPr/>
          <p:nvPr/>
        </p:nvPicPr>
        <p:blipFill>
          <a:blip r:embed="rId4"/>
          <a:stretch/>
        </p:blipFill>
        <p:spPr>
          <a:xfrm>
            <a:off x="5888160" y="3103560"/>
            <a:ext cx="11649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1571760" y="2643120"/>
            <a:ext cx="5929200" cy="3425760"/>
          </a:xfrm>
          <a:prstGeom prst="rect">
            <a:avLst/>
          </a:prstGeom>
          <a:ln w="0">
            <a:noFill/>
          </a:ln>
        </p:spPr>
      </p:pic>
      <p:sp>
        <p:nvSpPr>
          <p:cNvPr id="181" name="CasellaDiTesto 4"/>
          <p:cNvSpPr/>
          <p:nvPr/>
        </p:nvSpPr>
        <p:spPr>
          <a:xfrm>
            <a:off x="571680" y="1357200"/>
            <a:ext cx="8001000" cy="521460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padronanza linguistica consiste nel </a:t>
            </a: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possesso ben strutturato di una lingu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ieme alla </a:t>
            </a: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capacità di servirsene per i vari scopi comunicativ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si esplica in tre ambi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</a:rPr>
              <a:t>interazione verba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= partecipare ad uno scambio comunicativo orale in vari contesti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</a:rPr>
              <a:t>lettur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(= comprendere ed interpretare testi scritti di vario tipo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6600"/>
                </a:solidFill>
                <a:latin typeface="Arial"/>
              </a:rPr>
              <a:t>scrittur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(= produrre testi di vario tipo in relazione ai differenti scopi comunicativ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12720" y="500040"/>
            <a:ext cx="61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La padronanza lingui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1" descr=""/>
          <p:cNvPicPr/>
          <p:nvPr/>
        </p:nvPicPr>
        <p:blipFill>
          <a:blip r:embed="rId1"/>
          <a:stretch/>
        </p:blipFill>
        <p:spPr>
          <a:xfrm>
            <a:off x="1571760" y="2643120"/>
            <a:ext cx="5929200" cy="3425760"/>
          </a:xfrm>
          <a:prstGeom prst="rect">
            <a:avLst/>
          </a:prstGeom>
          <a:ln w="0">
            <a:noFill/>
          </a:ln>
        </p:spPr>
      </p:pic>
      <p:sp>
        <p:nvSpPr>
          <p:cNvPr id="185" name="CasellaDiTesto 4"/>
          <p:cNvSpPr/>
          <p:nvPr/>
        </p:nvSpPr>
        <p:spPr>
          <a:xfrm>
            <a:off x="571680" y="1714680"/>
            <a:ext cx="8001000" cy="496836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una prova nazionale, che deve essere di semplice somministrazione e di semplice correzione, per motivi tecnici è possibile valutare s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</a:rPr>
              <a:t>le competenze di let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e conoscenze (e competenze?) grammati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512720" y="500040"/>
            <a:ext cx="61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La padronanza lingui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C:\Users\Utente\Desktop\quadri\fragonard-jean-honore-young-girl-reading.jpg"/>
          <p:cNvPicPr/>
          <p:nvPr/>
        </p:nvPicPr>
        <p:blipFill>
          <a:blip r:embed="rId1"/>
          <a:stretch/>
        </p:blipFill>
        <p:spPr>
          <a:xfrm>
            <a:off x="2571840" y="1928880"/>
            <a:ext cx="3429000" cy="4286160"/>
          </a:xfrm>
          <a:prstGeom prst="rect">
            <a:avLst/>
          </a:prstGeom>
          <a:ln w="0">
            <a:noFill/>
          </a:ln>
        </p:spPr>
      </p:pic>
      <p:sp>
        <p:nvSpPr>
          <p:cNvPr id="189" name="Segnaposto contenuto 1"/>
          <p:cNvSpPr/>
          <p:nvPr/>
        </p:nvSpPr>
        <p:spPr>
          <a:xfrm>
            <a:off x="385920" y="1481040"/>
            <a:ext cx="8472240" cy="459108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r competenza di lettura si intendono nel Quadro di Riferimento la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comprension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interpretazion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0070c0"/>
                </a:solidFill>
                <a:latin typeface="Arial"/>
              </a:rPr>
              <a:t>riflession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3200" spc="-1" strike="noStrike">
                <a:solidFill>
                  <a:srgbClr val="990000"/>
                </a:solidFill>
                <a:latin typeface="Arial"/>
              </a:rPr>
              <a:t>valutazion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el testo scritto, aventi ad oggetto un’ampia gamma di testi letterari e non lette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12720" y="500040"/>
            <a:ext cx="61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La competenza di le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C:\Users\Utente\Desktop\quadri\fragonard-jean-honore-young-girl-reading.jpg"/>
          <p:cNvPicPr/>
          <p:nvPr/>
        </p:nvPicPr>
        <p:blipFill>
          <a:blip r:embed="rId1"/>
          <a:stretch/>
        </p:blipFill>
        <p:spPr>
          <a:xfrm>
            <a:off x="2571840" y="1928880"/>
            <a:ext cx="3429000" cy="4286160"/>
          </a:xfrm>
          <a:prstGeom prst="rect">
            <a:avLst/>
          </a:prstGeom>
          <a:ln w="0">
            <a:noFill/>
          </a:ln>
        </p:spPr>
      </p:pic>
      <p:sp>
        <p:nvSpPr>
          <p:cNvPr id="193" name="Segnaposto contenuto 1"/>
          <p:cNvSpPr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sotto - competenze individuate sono que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Pragmatico T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b0f0"/>
                </a:solidFill>
                <a:latin typeface="Arial"/>
              </a:rPr>
              <a:t>Lessi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</a:rPr>
              <a:t>Grammati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12720" y="500040"/>
            <a:ext cx="61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La competenza di le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C:\Users\Utente\Desktop\quadri\leggere.jpg"/>
          <p:cNvPicPr/>
          <p:nvPr/>
        </p:nvPicPr>
        <p:blipFill>
          <a:blip r:embed="rId1"/>
          <a:stretch/>
        </p:blipFill>
        <p:spPr>
          <a:xfrm>
            <a:off x="1714680" y="2035080"/>
            <a:ext cx="5603760" cy="43941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512720" y="500040"/>
            <a:ext cx="61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00"/>
                </a:solidFill>
                <a:latin typeface="Arial"/>
              </a:rPr>
              <a:t>La sotto - competenza testu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sellaDiTesto 4"/>
          <p:cNvSpPr/>
          <p:nvPr/>
        </p:nvSpPr>
        <p:spPr>
          <a:xfrm>
            <a:off x="500040" y="1889280"/>
            <a:ext cx="8001000" cy="46188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gnaposto contenuto 1"/>
          <p:cNvSpPr/>
          <p:nvPr/>
        </p:nvSpPr>
        <p:spPr>
          <a:xfrm>
            <a:off x="457200" y="2000160"/>
            <a:ext cx="8229600" cy="350064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iste nella capacità di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 ricostruir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a partire dalla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lettera del test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 da conoscenze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”enciclopediche”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l’insieme di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ignificat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he il testo veicola, assieme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 mod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cui essi sono veicolati: in altri termini,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l’organizzazione logico – concettua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formale</a:t>
            </a: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l testo stesso, in rapporto comunque con il cont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C:\Users\Utente\Desktop\quadri\leggere.jpg"/>
          <p:cNvPicPr/>
          <p:nvPr/>
        </p:nvPicPr>
        <p:blipFill>
          <a:blip r:embed="rId1"/>
          <a:stretch/>
        </p:blipFill>
        <p:spPr>
          <a:xfrm>
            <a:off x="1714680" y="2035080"/>
            <a:ext cx="5603760" cy="4394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512720" y="500040"/>
            <a:ext cx="61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00"/>
                </a:solidFill>
                <a:latin typeface="Arial"/>
              </a:rPr>
              <a:t>La sotto - competenza testu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gnaposto contenuto 1"/>
          <p:cNvSpPr/>
          <p:nvPr/>
        </p:nvSpPr>
        <p:spPr>
          <a:xfrm>
            <a:off x="457200" y="2000160"/>
            <a:ext cx="8229600" cy="301968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comprendere, interpretare e valutare un testo il lettore deve essere in grado di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ndividuare specifiche informazion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ricostruire il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enso globa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 il significato di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ingole part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cogliere l’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ntenzion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comunicativ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dell’autore, lo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cop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del testo e il </a:t>
            </a: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gener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ui esso apparti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628560" y="2571840"/>
            <a:ext cx="7886880" cy="3943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512720" y="500040"/>
            <a:ext cx="61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f0"/>
                </a:solidFill>
                <a:latin typeface="Arial"/>
              </a:rPr>
              <a:t>La sotto - competenza lessi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egnaposto contenuto 1"/>
          <p:cNvSpPr/>
          <p:nvPr/>
        </p:nvSpPr>
        <p:spPr>
          <a:xfrm>
            <a:off x="243000" y="2266920"/>
            <a:ext cx="8472240" cy="209088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competenza lessicale relativa alla lettura si intende specificamente la conoscenza o la capacità di </a:t>
            </a: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ricostruire il significato di un vocabolo in un determinato contes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le </a:t>
            </a: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relazioni di significato tra vocabol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n vari punti del 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930320" y="2733840"/>
            <a:ext cx="5141880" cy="3767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512720" y="500040"/>
            <a:ext cx="61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La sotto - competenza grammati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4"/>
          <p:cNvSpPr/>
          <p:nvPr/>
        </p:nvSpPr>
        <p:spPr>
          <a:xfrm>
            <a:off x="500040" y="1889280"/>
            <a:ext cx="8001000" cy="46188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contenuto 1"/>
          <p:cNvSpPr/>
          <p:nvPr/>
        </p:nvSpPr>
        <p:spPr>
          <a:xfrm>
            <a:off x="500040" y="2357280"/>
            <a:ext cx="8229600" cy="20005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competenza grammaticale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relativa alla lettur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i intende la capacità di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individuare le strutture morfosintattich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ella frase e le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strutture interpuntiv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 funzione della loro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pertinenza testuale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, dal punto di vista cioè del loro apporto alla costruzione e configurazione dei significati del tes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1930320" y="2733840"/>
            <a:ext cx="5141880" cy="37670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512720" y="500040"/>
            <a:ext cx="61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Le conoscenze grammatic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contenuto 1"/>
          <p:cNvSpPr/>
          <p:nvPr/>
        </p:nvSpPr>
        <p:spPr>
          <a:xfrm>
            <a:off x="457200" y="2338560"/>
            <a:ext cx="8229600" cy="16621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 è sembrato e sembra necessario verificare anche</a:t>
            </a: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, a part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seconda sezione della prova di Italiano)</a:t>
            </a: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le conoscenze grammatical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se come sistema di descrizione esplicita della lin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428760" y="712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Qualche ese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magine 16" descr="cornice-ambra--cornici-porta-foto--cornici-vetrofusione--ambra-212814z0.jpg"/>
          <p:cNvPicPr/>
          <p:nvPr/>
        </p:nvPicPr>
        <p:blipFill>
          <a:blip r:embed="rId1"/>
          <a:stretch/>
        </p:blipFill>
        <p:spPr>
          <a:xfrm>
            <a:off x="571680" y="1571760"/>
            <a:ext cx="299556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17" descr="cornice-corallo--cornici-porta-foto--cornici-vetrofusione--corallo-212816z0.jpg"/>
          <p:cNvPicPr/>
          <p:nvPr/>
        </p:nvPicPr>
        <p:blipFill>
          <a:blip r:embed="rId2"/>
          <a:stretch/>
        </p:blipFill>
        <p:spPr>
          <a:xfrm>
            <a:off x="5572080" y="3395520"/>
            <a:ext cx="3262320" cy="303372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2762280" y="1143000"/>
            <a:ext cx="3809880" cy="1384200"/>
          </a:xfrm>
          <a:prstGeom prst="ellipse">
            <a:avLst/>
          </a:prstGeom>
          <a:solidFill>
            <a:srgbClr val="ffffcc">
              <a:alpha val="85000"/>
            </a:srgbClr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Lucida Sans Unicode"/>
              </a:rPr>
              <a:t>Quadri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Lucida Sans Unicode"/>
              </a:rPr>
              <a:t>per il Sistema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3357720"/>
            <a:ext cx="3166920" cy="1000080"/>
          </a:xfrm>
          <a:prstGeom prst="rect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adro di rife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 i cur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867280" y="3048120"/>
            <a:ext cx="2952720" cy="1584360"/>
          </a:xfrm>
          <a:prstGeom prst="rect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Quadri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 le valu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ternazionali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5410080"/>
            <a:ext cx="2592360" cy="719280"/>
          </a:xfrm>
          <a:prstGeom prst="rect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Prassi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9"/>
          <p:cNvCxnSpPr/>
          <p:nvPr/>
        </p:nvCxnSpPr>
        <p:spPr>
          <a:xfrm flipH="1" flipV="1" rot="5400000">
            <a:off x="2261880" y="2490120"/>
            <a:ext cx="963000" cy="7725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8" name="AutoShape 10"/>
          <p:cNvCxnSpPr>
            <a:stCxn id="66" idx="3"/>
          </p:cNvCxnSpPr>
          <p:nvPr/>
        </p:nvCxnSpPr>
        <p:spPr>
          <a:xfrm flipV="1">
            <a:off x="3354120" y="2544480"/>
            <a:ext cx="911880" cy="3226320"/>
          </a:xfrm>
          <a:prstGeom prst="curvedConnector2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9" name="AutoShape 11"/>
          <p:cNvCxnSpPr/>
          <p:nvPr/>
        </p:nvCxnSpPr>
        <p:spPr>
          <a:xfrm rot="10800000">
            <a:off x="5285520" y="2499480"/>
            <a:ext cx="991440" cy="3448800"/>
          </a:xfrm>
          <a:prstGeom prst="curvedConnector2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70" name="Rectangle 12"/>
          <p:cNvSpPr/>
          <p:nvPr/>
        </p:nvSpPr>
        <p:spPr>
          <a:xfrm>
            <a:off x="6248520" y="5638680"/>
            <a:ext cx="2592360" cy="648000"/>
          </a:xfrm>
          <a:prstGeom prst="rect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Esiti delle rilev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prece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66"/>
                </a:solidFill>
                <a:latin typeface="Arial"/>
              </a:rPr>
              <a:t>I quadri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9"/>
          <p:cNvCxnSpPr/>
          <p:nvPr/>
        </p:nvCxnSpPr>
        <p:spPr>
          <a:xfrm rot="10800000">
            <a:off x="6357240" y="2285280"/>
            <a:ext cx="78660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74" name="Rectangle 8"/>
          <p:cNvSpPr/>
          <p:nvPr/>
        </p:nvSpPr>
        <p:spPr>
          <a:xfrm>
            <a:off x="3479760" y="5929200"/>
            <a:ext cx="2592360" cy="719280"/>
          </a:xfrm>
          <a:prstGeom prst="rect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Finalità Inval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1"/>
          <p:cNvCxnSpPr/>
          <p:nvPr/>
        </p:nvCxnSpPr>
        <p:spPr>
          <a:xfrm flipH="1" flipV="1" rot="5400000">
            <a:off x="3138120" y="4209840"/>
            <a:ext cx="3286800" cy="10080"/>
          </a:xfrm>
          <a:prstGeom prst="curvedConnector5">
            <a:avLst>
              <a:gd name="adj1" fmla="val 49994"/>
              <a:gd name="adj2" fmla="val 48148"/>
              <a:gd name="adj3" fmla="val 49994"/>
            </a:avLst>
          </a:prstGeom>
          <a:ln w="5724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428760" y="712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Competenza di le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28760" y="712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Ambiti di competenza di lettura oggetto degli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4"/>
          <p:cNvSpPr/>
          <p:nvPr/>
        </p:nvSpPr>
        <p:spPr>
          <a:xfrm>
            <a:off x="500040" y="1357200"/>
            <a:ext cx="8001000" cy="475740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1. Riconoscere e comprendere il significato letterale e figurato di parole ed espressioni; riconoscere le relazioni tra pa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2. Individuare informazioni date esplicitamente nel testo</a:t>
            </a: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3. Fare un’inferenza diretta, ricavando un’informazione implicita da una o più informazioni date nel testo e/o tratte dall’enciclopedia personale del let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4. Cogliere le relazioni di coesione (organizzazione logica entro e oltre la frase) e coerenza tes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5a. Ricostruire il significato di una parte più o meno estesa del testo, integrando più informazioni e concetti, anche formulando inferenze compl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5b. Ricostruire il significato globale del testo, integrando più informazioni e concetti, anche formulando inferenze compl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6. Sviluppare un’interpretazione del testo, a partire dal suo contenuto e/o dalla sua forma, andando al di là di una comprensione lett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7. Valutare il contenuto e/o la forma del testo alla luce delle conoscenze ed esperienze pers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29" name="CasellaDiTesto 4"/>
          <p:cNvSpPr/>
          <p:nvPr/>
        </p:nvSpPr>
        <p:spPr>
          <a:xfrm>
            <a:off x="500040" y="1889280"/>
            <a:ext cx="8001000" cy="436284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il significato nel contesto di parole ed espres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l significato delle modificazioni morfologiche di sostantivi (alterazione) e aggettivi (grad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rapporti di sinonimia/antonimia tra parole o espres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ostituire un lessema o un’espressione con una di significato analogo o opp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mprendere il significato di parole ed espressioni usate in senso figu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mprendere il significato di parole ed espressioni idio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i lessemi che afferiscono a un determinato campo sema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57120" y="357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1. Riconoscere e comprendere il significato letterale e figurato di parole ed espressioni; riconoscere le relazioni tra pa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sellaDiTesto 4"/>
          <p:cNvSpPr/>
          <p:nvPr/>
        </p:nvSpPr>
        <p:spPr>
          <a:xfrm>
            <a:off x="500040" y="1889280"/>
            <a:ext cx="8001000" cy="283824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Individuare una o più informazioni specifiche esplicitamente presenti nel testo in forma letterale o in forma sinonimica e parafr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una o più informazioni date in forma sia verbale sia grafica (iconica, simbolica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cegliere fra più informazioni concorrenti quella pertinente alla domanda spec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ercare informazioni nel testo per uno scopo 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57120" y="3571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2. Individuare informazioni date esplicitamente nel 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4"/>
          <p:cNvSpPr/>
          <p:nvPr/>
        </p:nvSpPr>
        <p:spPr>
          <a:xfrm>
            <a:off x="500040" y="3919680"/>
            <a:ext cx="8001000" cy="192348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ferire il luogo o il tempo in cui si svolge una storia o un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ferire le caratteristiche di un personaggio dalle su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ferire ed esplicitare la causa o le motivazioni di un fatto o di una 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57120" y="214200"/>
            <a:ext cx="8358120" cy="265428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3. Fare un’inferenza diretta, ricavando un’informazione implicita da una o più informazioni date nel testo e/o tratte dall’enciclopedia personale del lettore. </a:t>
            </a:r>
            <a:r>
              <a:rPr b="1" i="1" lang="it-IT" sz="2400" spc="-1" strike="noStrike">
                <a:solidFill>
                  <a:srgbClr val="009900"/>
                </a:solidFill>
                <a:latin typeface="Arial"/>
              </a:rPr>
              <a:t>(Qui si fa riferimento alla singola inferenza diretta, mentre la formulazione di inferenze complesse si ha in diversi aspetti di comprensione del testo, particolarmente gli aspetti 5 e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sellaDiTesto 4"/>
          <p:cNvSpPr/>
          <p:nvPr/>
        </p:nvSpPr>
        <p:spPr>
          <a:xfrm>
            <a:off x="714240" y="1928880"/>
            <a:ext cx="8001000" cy="375300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il riferimento di una anafora o di catene anaforiche (sinonimi, pronomi, aggettivi e pronomi possessivi, deittici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l significato e la funzione dei connettivi frasali e test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l significato e la funzione dei segni d’interpu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 rapporti tra frasi o porzioni di testo (riformulazione, esemplificazione, opposizione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Esplicitare una frase implicita (costruita con forme implicite del verbo: gerundio, particip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57120" y="214200"/>
            <a:ext cx="8358120" cy="82548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4. Cogliere le relazioni di coesione (organizzazione logica entro e oltre la frase) e coerenza tes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sellaDiTesto 4"/>
          <p:cNvSpPr/>
          <p:nvPr/>
        </p:nvSpPr>
        <p:spPr>
          <a:xfrm>
            <a:off x="714240" y="1928880"/>
            <a:ext cx="8001000" cy="40579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tegrare o collegare informazioni presenti nel testo e/o tratte dall’enciclopedia personale del l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rapporti di causa-effetto tra eventi o fenomeni anche distanti ne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le motivazioni o lo scopo delle azioni dei personaggi d’una 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o ricostruire la successione temporale degli e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il carattere dei persona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i sentimenti e gli atteggiamenti dei personaggi e le loro rel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le proprietà di un oggetto o di un feno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57120" y="214200"/>
            <a:ext cx="8358120" cy="119124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5a. Ricostruire il significato di una parte più o meno estesa del testo, integrando più informazioni e concetti, anche formulando inferenze compl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asellaDiTesto 4"/>
          <p:cNvSpPr/>
          <p:nvPr/>
        </p:nvSpPr>
        <p:spPr>
          <a:xfrm>
            <a:off x="714240" y="1928880"/>
            <a:ext cx="8001000" cy="40579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il tema o l’argomento principale di un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sintetizzare un testo (ad esempio, dandogli un titolo o riassumendolo in una-due frasi o individuando la frase che lo sintetizza meg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le sequenze di cui un testo si compone e/o ricostruirne l’ordine e i rapporti recipr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la frase o il periodo che completa o prosegue un testo d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i personaggi principali o il protagonista di una 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la tesi sostenuta nel testo e gli argomenti a suppo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5b. Ricostruire il significato globale del testo, integrando più informazioni e concetti, anche formulando inferenze compl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sellaDiTesto 4"/>
          <p:cNvSpPr/>
          <p:nvPr/>
        </p:nvSpPr>
        <p:spPr>
          <a:xfrm>
            <a:off x="714240" y="1928880"/>
            <a:ext cx="8001000" cy="222840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le intenzioni, il punto di vista dell’autore o lo scopo per cui il testo è stato scr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gliere la morale di una 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mmaginare un finale alternativo ad una 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il registro, il tono e lo stile di un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il genere testuale e il genere lette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6. Sviluppare un’interpretazione del testo, a partire dal suo contenuto e/o dalla sua forma, andando al di là di una comprensione lett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C:\Users\Utente\Desktop\quadri\reading-a-book-001.jpg"/>
          <p:cNvPicPr/>
          <p:nvPr/>
        </p:nvPicPr>
        <p:blipFill>
          <a:blip r:embed="rId1"/>
          <a:stretch/>
        </p:blipFill>
        <p:spPr>
          <a:xfrm>
            <a:off x="1881360" y="2571840"/>
            <a:ext cx="5047920" cy="3029040"/>
          </a:xfrm>
          <a:prstGeom prst="rect">
            <a:avLst/>
          </a:prstGeom>
          <a:ln w="0">
            <a:noFill/>
          </a:ln>
        </p:spPr>
      </p:pic>
      <p:sp>
        <p:nvSpPr>
          <p:cNvPr id="257" name="CasellaDiTesto 4"/>
          <p:cNvSpPr/>
          <p:nvPr/>
        </p:nvSpPr>
        <p:spPr>
          <a:xfrm>
            <a:off x="714240" y="1928880"/>
            <a:ext cx="8001000" cy="466776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Valutare la verosimiglianza o la plausibilità di quanto si dice ne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Valutare la coerenza e la validità di un’argo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Argomentare a favore o contro il punto di vista dell’autore o di un person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nfrontare punti di vista diversi espressi nel testo ed esprimere il proprio accordo o disacco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Valutare l’efficacia espressiva e comunicativa de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Valutare le scelte stilistiche dell’autore (scelte lessicali e di registro, parole chiave, metafore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Valutare la chiarezza e l’organizzazione di una mappa, di una tabella, di un gra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flettere su come elementi iconografici o tipografici contribuiscono alla comprensione de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14200" y="214200"/>
            <a:ext cx="8715600" cy="82548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7. Valutare il contenuto e/o la forma del testo alla luce delle conoscenze ed esperienze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727280" y="6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Il quadro di riferimento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magine 4" descr="34382472_1-calculo-I-e-matematica-basica-preco-promocional-siqueira-campos.jpg"/>
          <p:cNvPicPr/>
          <p:nvPr/>
        </p:nvPicPr>
        <p:blipFill>
          <a:blip r:embed="rId1"/>
          <a:stretch/>
        </p:blipFill>
        <p:spPr>
          <a:xfrm>
            <a:off x="1903320" y="2428920"/>
            <a:ext cx="5383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428760" y="712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Conoscenze grammatic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contenuto 1"/>
          <p:cNvSpPr/>
          <p:nvPr/>
        </p:nvSpPr>
        <p:spPr>
          <a:xfrm>
            <a:off x="457200" y="2357280"/>
            <a:ext cx="8229600" cy="2286000"/>
          </a:xfrm>
          <a:prstGeom prst="rect">
            <a:avLst/>
          </a:prstGeom>
          <a:solidFill>
            <a:srgbClr val="ff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Ortograf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Morfolog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Formazione delle pa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essico e seman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Sinta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est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8760" y="712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Ambiti di contenuto grammaticale oggetto degli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sellaDiTesto 4"/>
          <p:cNvSpPr/>
          <p:nvPr/>
        </p:nvSpPr>
        <p:spPr>
          <a:xfrm>
            <a:off x="714240" y="1928880"/>
            <a:ext cx="8001000" cy="283824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scrivere le parole in forma corr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noscere e saper applicare le convenzioni d’uso delle maiuscole e minus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noscere e saper applicare le regole d’uso di accenti e apostro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noscere e saper applicare le regole della divisione tra pa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Conoscere, saper applicare e saper spiegare le regole ort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1. Or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sellaDiTesto 4"/>
          <p:cNvSpPr/>
          <p:nvPr/>
        </p:nvSpPr>
        <p:spPr>
          <a:xfrm>
            <a:off x="714240" y="1928880"/>
            <a:ext cx="8001000" cy="283824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Distinguere parole variabili e invari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e saper denominare i tratti grammaticali (numero, genere, grado, persona, tempo, modo, aspetto, diate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, saper denominare e saper usare correttamente le forme verbali (modi e tempi) in contesti 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e categorie lessicali (parti del disco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, all’interno delle categorie, le sottocategorie lessicali (ad esempio diversi tipi di pronomi, aggettivi, 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2. Morf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sellaDiTesto 4"/>
          <p:cNvSpPr/>
          <p:nvPr/>
        </p:nvSpPr>
        <p:spPr>
          <a:xfrm>
            <a:off x="714240" y="1928880"/>
            <a:ext cx="8001000" cy="222840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 principali meccanismi di derivazione (prefissi e suffissi) e il loro valore sema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 principali meccanismi di alterazione e il loro valore sema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 principali meccanismi di composizione delle parole e il loro valore seman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3. Formazione delle pa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llaDiTesto 4"/>
          <p:cNvSpPr/>
          <p:nvPr/>
        </p:nvSpPr>
        <p:spPr>
          <a:xfrm>
            <a:off x="714240" y="1928880"/>
            <a:ext cx="8001000" cy="40579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e relazioni di significato tra parole (sinonimia, antonimia, iperonimia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fenomeni di polis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’organizzazione delle parole in campi semantici e in famiglie lessi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ritrovare le parole nel diz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leggere il lemma di un dizionario, ricavandone tutte le informazioni: fonologiche, grammaticali, semantiche (usi propri e figurati), etimologiche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gli usi propri, figurati, settoriali, situazionali (relativi al registro), gergali, di parole o espres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e principali figure retor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4. Lessico e sema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84" name="CasellaDiTesto 4"/>
          <p:cNvSpPr/>
          <p:nvPr/>
        </p:nvSpPr>
        <p:spPr>
          <a:xfrm>
            <a:off x="714240" y="1011240"/>
            <a:ext cx="8001000" cy="558252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fenomeni di concordanza tra le parole di una f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dentificare in una frase gli elementi costitutivi (sintag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gli argomenti richiesti necessariamente dal predicato di una frase semp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Individuare le diverse tipologie di frasi: dichiarativa, interrogativa e responsiva, negativa, imperativa, escla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e fondamentali funzioni sintattiche in una frase (soggetto, predicato verbale e predicato nominale, complementi predicativ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lemento oggetto, complementi indiretti o preposizion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individuare le proposizioni di un periodo e riconoscerne l’articolazione gerarchica (rapporti di reggenza, subordinazione, coordin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Saper riconoscere le principali tipologie di frasi subordinate in un periodo sia in forma esplicita sia in forma implicita (causale, temporale, finale, consecutiva, oggettiva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5. Sint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C:\Users\Utente\Desktop\quadri\large_writing1gp.jpg"/>
          <p:cNvPicPr/>
          <p:nvPr/>
        </p:nvPicPr>
        <p:blipFill>
          <a:blip r:embed="rId1"/>
          <a:stretch/>
        </p:blipFill>
        <p:spPr>
          <a:xfrm>
            <a:off x="1695600" y="2117880"/>
            <a:ext cx="5752800" cy="40258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sellaDiTesto 4"/>
          <p:cNvSpPr/>
          <p:nvPr/>
        </p:nvSpPr>
        <p:spPr>
          <a:xfrm>
            <a:off x="714240" y="1450800"/>
            <a:ext cx="8001000" cy="3143160"/>
          </a:xfrm>
          <a:prstGeom prst="rect">
            <a:avLst/>
          </a:pr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Arial"/>
              </a:rPr>
              <a:t>Esempi di possibili comp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a funzione dei segni di punteggiatura e saperli usare corret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il significato e la funzione dei connettivi e saperli utilizzare correttamente in contesti 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a funzione pragmatica di un enunciato (ad esempio: richiesta, suggerimento, ordine, ecc.) anche quando espressa in forma non lett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- Riconoscere le caratteristiche fondamentali della comunicazione orale e scri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solidFill>
            <a:srgbClr val="ffffcc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6. Test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Grafico 5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82594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727280" y="6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Il problema della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4" descr="34382472_1-calculo-I-e-matematica-basica-preco-promocional-siqueira-campos.jpg"/>
          <p:cNvPicPr/>
          <p:nvPr/>
        </p:nvPicPr>
        <p:blipFill>
          <a:blip r:embed="rId1"/>
          <a:stretch/>
        </p:blipFill>
        <p:spPr>
          <a:xfrm>
            <a:off x="1903320" y="2428920"/>
            <a:ext cx="5383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4" descr="34382472_1-calculo-I-e-matematica-basica-preco-promocional-siqueira-campos.jpg"/>
          <p:cNvPicPr/>
          <p:nvPr/>
        </p:nvPicPr>
        <p:blipFill>
          <a:blip r:embed="rId1"/>
          <a:stretch/>
        </p:blipFill>
        <p:spPr>
          <a:xfrm>
            <a:off x="1903320" y="2428920"/>
            <a:ext cx="5383440" cy="3571920"/>
          </a:xfrm>
          <a:prstGeom prst="rect">
            <a:avLst/>
          </a:prstGeom>
          <a:ln w="0">
            <a:noFill/>
          </a:ln>
        </p:spPr>
      </p:pic>
      <p:sp>
        <p:nvSpPr>
          <p:cNvPr id="83" name="Oval 4"/>
          <p:cNvSpPr/>
          <p:nvPr/>
        </p:nvSpPr>
        <p:spPr>
          <a:xfrm>
            <a:off x="285840" y="2071800"/>
            <a:ext cx="8643960" cy="428616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tutti gli indicatori disponib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sembrano dirci che </a:t>
            </a: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Lucida Sans Unicode"/>
              </a:rPr>
              <a:t>oltre la me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degli allievi non raggiu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Arial"/>
                <a:ea typeface="Lucida Sans Unicode"/>
              </a:rPr>
              <a:t>un livello soddisfacente nell’apprendimento della mate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27280" y="6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Il problema della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magine 4" descr="34382472_1-calculo-I-e-matematica-basica-preco-promocional-siqueira-campos.jpg"/>
          <p:cNvPicPr/>
          <p:nvPr/>
        </p:nvPicPr>
        <p:blipFill>
          <a:blip r:embed="rId1"/>
          <a:stretch/>
        </p:blipFill>
        <p:spPr>
          <a:xfrm>
            <a:off x="1903320" y="2428920"/>
            <a:ext cx="5383440" cy="3571920"/>
          </a:xfrm>
          <a:prstGeom prst="rect">
            <a:avLst/>
          </a:prstGeom>
          <a:ln w="0">
            <a:noFill/>
          </a:ln>
        </p:spPr>
      </p:pic>
      <p:sp>
        <p:nvSpPr>
          <p:cNvPr id="87" name="Oval 4"/>
          <p:cNvSpPr/>
          <p:nvPr/>
        </p:nvSpPr>
        <p:spPr>
          <a:xfrm>
            <a:off x="252360" y="115920"/>
            <a:ext cx="3311640" cy="1800360"/>
          </a:xfrm>
          <a:prstGeom prst="ellipse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OCSE-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508720" y="115920"/>
            <a:ext cx="3311280" cy="1800360"/>
          </a:xfrm>
          <a:prstGeom prst="ellipse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Prova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759280" y="3414600"/>
            <a:ext cx="3311640" cy="1800360"/>
          </a:xfrm>
          <a:prstGeom prst="ellipse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Debiti in prima super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142920" y="3486240"/>
            <a:ext cx="3311640" cy="1800000"/>
          </a:xfrm>
          <a:prstGeom prst="ellipse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Valutazioni degli insegn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285920" y="2205000"/>
            <a:ext cx="7000920" cy="1009800"/>
          </a:xfrm>
          <a:prstGeom prst="rect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262673"/>
                </a:solidFill>
                <a:latin typeface="Arial"/>
                <a:ea typeface="Lucida Sans Unicode"/>
              </a:rPr>
              <a:t>I risultati degli stud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262673"/>
                </a:solidFill>
                <a:latin typeface="Arial"/>
                <a:ea typeface="Lucida Sans Unicode"/>
              </a:rPr>
              <a:t>non ci soddisfano in ol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262673"/>
                </a:solidFill>
                <a:latin typeface="Arial"/>
                <a:ea typeface="Lucida Sans Unicode"/>
              </a:rPr>
              <a:t> </a:t>
            </a:r>
            <a:r>
              <a:rPr b="1" lang="it-IT" sz="2400" spc="-1" strike="noStrike">
                <a:solidFill>
                  <a:srgbClr val="262673"/>
                </a:solidFill>
                <a:latin typeface="Arial"/>
                <a:ea typeface="Lucida Sans Unicode"/>
              </a:rPr>
              <a:t>la metà dei c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2916360" y="4724280"/>
            <a:ext cx="3311280" cy="1800360"/>
          </a:xfrm>
          <a:prstGeom prst="ellipse">
            <a:avLst/>
          </a:prstGeom>
          <a:solidFill>
            <a:srgbClr val="ffffcc">
              <a:alpha val="85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Esiti dell'esame di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  <a:ea typeface="Lucida Sans Unicode"/>
              </a:rPr>
              <a:t>(liceo scientif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onnettore 2 13"/>
          <p:cNvCxnSpPr/>
          <p:nvPr/>
        </p:nvCxnSpPr>
        <p:spPr>
          <a:xfrm>
            <a:off x="3500280" y="1285560"/>
            <a:ext cx="572400" cy="85788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94" name="Connettore 2 15"/>
          <p:cNvCxnSpPr/>
          <p:nvPr/>
        </p:nvCxnSpPr>
        <p:spPr>
          <a:xfrm flipH="1">
            <a:off x="5928480" y="1785960"/>
            <a:ext cx="358200" cy="35784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95" name="Connettore 2 17"/>
          <p:cNvCxnSpPr>
            <a:stCxn id="89" idx="1"/>
          </p:cNvCxnSpPr>
          <p:nvPr/>
        </p:nvCxnSpPr>
        <p:spPr>
          <a:xfrm flipH="1" flipV="1">
            <a:off x="6071760" y="3142800"/>
            <a:ext cx="172080" cy="53568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96" name="Connettore 2 20"/>
          <p:cNvCxnSpPr/>
          <p:nvPr/>
        </p:nvCxnSpPr>
        <p:spPr>
          <a:xfrm flipV="1">
            <a:off x="4428000" y="3214440"/>
            <a:ext cx="72360" cy="142920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97" name="Connettore 2 23"/>
          <p:cNvCxnSpPr/>
          <p:nvPr/>
        </p:nvCxnSpPr>
        <p:spPr>
          <a:xfrm flipV="1">
            <a:off x="1856880" y="2785680"/>
            <a:ext cx="786600" cy="572400"/>
          </a:xfrm>
          <a:prstGeom prst="straightConnector1">
            <a:avLst/>
          </a:prstGeom>
          <a:ln w="507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8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magine 4" descr="34382472_1-calculo-I-e-matematica-basica-preco-promocional-siqueira-campos.jpg"/>
          <p:cNvPicPr/>
          <p:nvPr/>
        </p:nvPicPr>
        <p:blipFill>
          <a:blip r:embed="rId1"/>
          <a:stretch/>
        </p:blipFill>
        <p:spPr>
          <a:xfrm>
            <a:off x="1903320" y="2428920"/>
            <a:ext cx="5383440" cy="3571920"/>
          </a:xfrm>
          <a:prstGeom prst="rect">
            <a:avLst/>
          </a:prstGeom>
          <a:ln w="0">
            <a:noFill/>
          </a:ln>
        </p:spPr>
      </p:pic>
      <p:sp>
        <p:nvSpPr>
          <p:cNvPr id="100" name="Oval 4"/>
          <p:cNvSpPr/>
          <p:nvPr/>
        </p:nvSpPr>
        <p:spPr>
          <a:xfrm>
            <a:off x="785880" y="2178000"/>
            <a:ext cx="7743600" cy="4037040"/>
          </a:xfrm>
          <a:prstGeom prst="ellipse">
            <a:avLst/>
          </a:prstGeom>
          <a:solidFill>
            <a:srgbClr val="ffffcc">
              <a:alpha val="85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La Matematica è a tutti i live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un elemento cruc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Lucida Sans Unicode"/>
              </a:rPr>
              <a:t>dell’insuccesso scola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6360" y="44280"/>
            <a:ext cx="9072720" cy="67424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27280" y="6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Il problema della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9:20:35Z</dcterms:created>
  <dc:creator>Presidenza_</dc:creator>
  <dc:description/>
  <dc:language>en-US</dc:language>
  <cp:lastModifiedBy>Utente</cp:lastModifiedBy>
  <dcterms:modified xsi:type="dcterms:W3CDTF">2011-03-29T19:45:06Z</dcterms:modified>
  <cp:revision>181</cp:revision>
  <dc:subject/>
  <dc:title>Diapositiva 1</dc:title>
</cp:coreProperties>
</file>