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C0E5-BF03-4B1D-BEE7-293E96E80C8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23AA-B61D-4AE2-9665-219EE2F6547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1285-4FC9-4FEE-9136-16F58B679BF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E77-58B1-4C8E-89D3-2449E9128DD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FEB0-4995-4286-93D9-3AE88AB64BE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E62D-5DCB-48A6-A46B-814A13A2E0C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1F16-A552-4F44-AF74-A09347647A1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FA9F-D33A-407D-93C8-4FA5E3EA15B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BE5F-754A-4E70-9E65-A21A4E6C5A8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64D-7902-4445-8B17-54663831FEF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9433-4E08-45FE-975F-357554B7EE2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7A75-5B16-4BC9-BFAB-80E9395FEC1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24B0-74F2-4C86-A897-1FBB9715F4B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9C72-9F3F-47FD-AFDF-446B6F56405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CA95-10CB-49C6-AA13-4B80D03C172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DD1A-0CDF-4B1E-8312-7E6EC927927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C0DA-471F-413C-A035-0F63C7C07A4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035D-85F2-49BC-BC8D-CC6170FC32C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150-A2EB-4B59-B6CB-8136610C2DB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390B-682D-4C6E-B097-0D935766BE0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94DD-1DF7-4183-B6F7-91ADC428ED1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2674-2613-4198-83C4-14EAFBB8179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469C-975D-45E8-A600-466AC8BE76D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0FBF-780B-4458-92D1-814DC5D2016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1B04-9FD9-47AB-86C4-09D34C6E548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EF70-F4B3-46A7-A6B6-AC4584ADF94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FCF-1FA6-49AF-A972-1E256E286E5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337-490C-48D5-AE6B-6C9290F962F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0354-67EE-45E7-83F0-4E7604CDBE4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AEC7-EABC-453B-94F7-93866F9936C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38CD-D479-4724-BD37-966D1FAE936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1FE4-8F8F-40FE-B0BE-12A0EAE0085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1D3-5033-4F2F-8443-0BA83FD23D3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7852-DC0F-4FF9-A507-AD9FAE032C6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9D45-441E-4091-A7C8-D58305CAAE8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3F7F-1C18-428A-B65B-CC913B5DD00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9CF-DB95-4DE8-8B3F-340473DA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F80-CB6A-45F8-BF64-3CBCDA1F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DD7-04A4-4F55-B522-CCF96A3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BA6-0278-4221-9EFD-DF989423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DF0-EBC2-4875-8350-DA41FBFE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267-A444-4100-978A-762D948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2E7-C6A8-4EBC-AA4A-2380A3A8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C0D-60C4-4B00-94C2-45CC6EE5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2A5-889E-4059-84F2-3E9085C2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9C7-5C82-497B-8715-CCC0E5ED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DB0-CDEB-4E3F-A79A-CEF7731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C6A-0810-431B-B965-401A81D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B15E-55DD-464F-82FF-992BD1C1F9D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it/imgres?imgurl=http://scuolaprimariaerbanno.files.wordpress.com/2011/01/gufo.jpg&amp;imgrefurl=http://scuolaprimariaerbanno.wordpress.com/2011/01/09/si-ricomincia/&amp;usg=__dXgp8jwsWfDzULbFIIo9MgXTTxE=&amp;h=594&amp;w=517&amp;sz=52&amp;hl=it&amp;start=47&amp;zoom=1&amp;itbs=1&amp;tbnid=Y9nwYONYE4liaM:&amp;tbnh=135&amp;tbnw=118&amp;prev=/images%3Fq%3DGUFO%26start%3D40%26hl%3Dit%26sa%3DN%26gbv%3D2%26ndsp%3D20%26biw%3D960%26bih%3D509%26tbs%3Disch:1&amp;ei=eF2STa_ZIsHoOentiWI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Titolo 6" descr=""/>
          <p:cNvPicPr/>
          <p:nvPr/>
        </p:nvPicPr>
        <p:blipFill>
          <a:blip r:embed="rId2"/>
          <a:stretch/>
        </p:blipFill>
        <p:spPr>
          <a:xfrm>
            <a:off x="853920" y="1865160"/>
            <a:ext cx="8326440" cy="1798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00080" y="3728880"/>
            <a:ext cx="71438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b1608"/>
                </a:solidFill>
                <a:latin typeface="Constantia"/>
              </a:rPr>
              <a:t>seminari interprovincia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4429080"/>
          <a:ext cx="7358040" cy="884160"/>
        </p:xfrm>
        <a:graphic>
          <a:graphicData uri="http://schemas.openxmlformats.org/drawingml/2006/table">
            <a:tbl>
              <a:tblPr/>
              <a:tblGrid>
                <a:gridCol w="3679560"/>
                <a:gridCol w="3678480"/>
              </a:tblGrid>
              <a:tr h="1076400"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b1608"/>
                          </a:solidFill>
                          <a:latin typeface="Constantia"/>
                        </a:rPr>
                        <a:t>Chieti 30/03/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b1608"/>
                          </a:solidFill>
                          <a:latin typeface="Constantia"/>
                        </a:rPr>
                        <a:t>L’Aquila 31/03/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logo" descr="Immagine del logo dell'Invalsi"/>
          <p:cNvPicPr/>
          <p:nvPr/>
        </p:nvPicPr>
        <p:blipFill>
          <a:blip r:embed="rId3"/>
          <a:stretch/>
        </p:blipFill>
        <p:spPr>
          <a:xfrm flipH="1">
            <a:off x="971640" y="1197000"/>
            <a:ext cx="96048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258920" y="1268280"/>
            <a:ext cx="600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NV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8920" y="1773360"/>
            <a:ext cx="571320" cy="11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1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Homepage"/>
          <p:cNvSpPr/>
          <p:nvPr/>
        </p:nvSpPr>
        <p:spPr>
          <a:xfrm>
            <a:off x="3419640" y="2924280"/>
            <a:ext cx="2160360" cy="2809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971200">
            <a:off x="5092200" y="2839680"/>
            <a:ext cx="2185920" cy="1986120"/>
          </a:xfrm>
          <a:prstGeom prst="cloudCallout">
            <a:avLst>
              <a:gd name="adj1" fmla="val -42884"/>
              <a:gd name="adj2" fmla="val 8934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l disegno della rilevazion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465300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L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16360" y="4581360"/>
            <a:ext cx="2016360" cy="863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3645000"/>
            <a:ext cx="2016360" cy="865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643280" y="4797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Arial"/>
              </a:rPr>
              <a:t>a livello di stud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1628640"/>
            <a:ext cx="4752720" cy="692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 Dirigente scolastico è responsab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 processo di svolgimento della prova nella sua scuo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4292640"/>
            <a:ext cx="30124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rilevazione è</a:t>
            </a:r>
            <a:r>
              <a:rPr b="1" lang="en-US" sz="1800" spc="-1" strike="noStrike">
                <a:solidFill>
                  <a:srgbClr val="0b16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bf5f9"/>
                </a:solidFill>
                <a:latin typeface="Arial"/>
              </a:rPr>
              <a:t>censu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7240" y="386064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b1608"/>
                </a:solidFill>
                <a:latin typeface="Arial"/>
              </a:rPr>
              <a:t>a livello di scu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3924360" y="4149360"/>
            <a:ext cx="64764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653000"/>
            <a:ext cx="718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logo" descr="Immagine del logo dell'Invalsi"/>
          <p:cNvPicPr/>
          <p:nvPr/>
        </p:nvPicPr>
        <p:blipFill>
          <a:blip r:embed="rId3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sellaDiTesto 11"/>
          <p:cNvSpPr/>
          <p:nvPr/>
        </p:nvSpPr>
        <p:spPr>
          <a:xfrm>
            <a:off x="1908000" y="2637000"/>
            <a:ext cx="5761080" cy="1983600"/>
          </a:xfrm>
          <a:prstGeom prst="rect">
            <a:avLst/>
          </a:prstGeom>
          <a:noFill/>
          <a:ln cap="rnd" w="2844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 alcune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cuole campion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individuate dall’INVALSI, la somministrazione delle prove avverrà alla presenza di un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osservatore es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95640" y="486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27280" y="1557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uole campio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77080" y="15573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asellaDiTesto 11"/>
          <p:cNvSpPr/>
          <p:nvPr/>
        </p:nvSpPr>
        <p:spPr>
          <a:xfrm>
            <a:off x="857160" y="1857240"/>
            <a:ext cx="763272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ella Scuola Pri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1 maggio 2011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classi II e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3 maggio 2011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classi II e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ella Scuola Secondaria di Primo 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75"/>
              </a:spcBef>
              <a:buClr>
                <a:srgbClr val="10cf9b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2 maggio 2011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A, MAT  e questionario student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classe 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826920" y="105264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 date della rilev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71640" y="4365720"/>
            <a:ext cx="7416720" cy="105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CUOLA SECONDARIA DI II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0 maggio 2011 ITA/MAT – QUESTIONARIO STUDENTE (classi secon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4360" y="907920"/>
            <a:ext cx="4392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OSTICIP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SECONDARIA DI  SECONDO GRAD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17 MAGGIO 201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24360" y="306864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4508640"/>
            <a:ext cx="576108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I RILEVAN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to patro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egno istituzionale della scuola protocollato prima della pubblicazione delle date delle prove INVAL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logo" descr="Immagine del logo dell'Invalsi"/>
          <p:cNvPicPr/>
          <p:nvPr/>
        </p:nvPicPr>
        <p:blipFill>
          <a:blip r:embed="rId3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asellaDiTesto 11"/>
          <p:cNvSpPr/>
          <p:nvPr/>
        </p:nvSpPr>
        <p:spPr>
          <a:xfrm>
            <a:off x="468360" y="2133720"/>
            <a:ext cx="81374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 algn="just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Gli insegnanti di classe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competenti per  ambito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provvedono 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 algn="just">
              <a:lnSpc>
                <a:spcPct val="100000"/>
              </a:lnSpc>
              <a:buClr>
                <a:srgbClr val="dbf5f9"/>
              </a:buClr>
              <a:buSzPct val="12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egistrare le risposte date dagli alunni alle domande chiuse delle 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 algn="just">
              <a:lnSpc>
                <a:spcPct val="100000"/>
              </a:lnSpc>
              <a:buClr>
                <a:srgbClr val="dbf5f9"/>
              </a:buClr>
              <a:buSzPct val="12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rreggere e codificare le risposte date dagli alunni alle domande aperte delle 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 risultati delle prove sono riportati sulle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chede-risposta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(stessa modalità della prova naziona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e schede-risposta devono essere spedite all’indirizzo indicato dall’INVALSI che procede alla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lettura ottica dei risult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 fascicoli compilati dagli alunni rimangono alla scu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258920" y="404640"/>
            <a:ext cx="68724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La correzione delle pr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cuole NON camp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4000" y="765000"/>
            <a:ext cx="52545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Attendibilità dei risultati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e1a1e"/>
                </a:solidFill>
                <a:latin typeface="Constantia"/>
              </a:rPr>
              <a:t>A garanzia dell’affidabilità e della credibilità  è stato predisposto un piano di verifica della somministrazione che prevede l’invio di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osservatori</a:t>
            </a: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e1a1e"/>
                </a:solidFill>
                <a:latin typeface="Constantia"/>
              </a:rPr>
              <a:t>in un campione di scuole: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Aft>
                <a:spcPts val="601"/>
              </a:spcAft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a1e"/>
                </a:solidFill>
                <a:latin typeface="Constantia"/>
              </a:rPr>
              <a:t>Per supportare la scuola nella somministrazio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Aft>
                <a:spcPts val="601"/>
              </a:spcAft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a1e"/>
                </a:solidFill>
                <a:latin typeface="Constantia"/>
              </a:rPr>
              <a:t>Per validare la procedur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Aft>
                <a:spcPts val="601"/>
              </a:spcAft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1a1e"/>
                </a:solidFill>
                <a:latin typeface="Constantia"/>
              </a:rPr>
              <a:t>Per raccogliere i dati   il giorno stesso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667640" y="3213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85840" y="8571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La correzione delle prove nel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b1608"/>
                </a:solidFill>
                <a:latin typeface="Calibri"/>
              </a:rPr>
              <a:t>Scuole camp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CasellaDiTesto 11"/>
          <p:cNvSpPr/>
          <p:nvPr/>
        </p:nvSpPr>
        <p:spPr>
          <a:xfrm>
            <a:off x="857160" y="2286000"/>
            <a:ext cx="734400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 algn="just">
              <a:lnSpc>
                <a:spcPts val="25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elle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cuole campione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 risultati delle prove saranno riportati sulle schede risposta dall’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osservatore esterno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il pomeriggio stesso del giorno in cui si svolge la pr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ts val="25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l termine dell’imputazione dei risultati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’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sservatore esterno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egna alla segreteria della scuola le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chede-risposta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(stessa modalità della prova naziona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ts val="25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segreteria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provvederà all’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invio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delle schede-risposta (compresa la parte di sua competenza) all’indirizzo indicato dall’INVAL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900000" y="981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Vantaggi della nuova modalità di rilev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CasellaDiTesto 11"/>
          <p:cNvSpPr/>
          <p:nvPr/>
        </p:nvSpPr>
        <p:spPr>
          <a:xfrm>
            <a:off x="684360" y="21337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imputazione dei risultati sulle schede-risposta da parte degli  insegnanti permette 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59200" y="5157720"/>
            <a:ext cx="4892760" cy="718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rre anc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nde aper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quindi di migliorare la qualità della pr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640" y="4221000"/>
            <a:ext cx="4704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are a scuola i fascicoli (prov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ministrati 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eriori approfondim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9400" y="3284640"/>
            <a:ext cx="4859640" cy="71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zare i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voro delle scu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lla trasmissione informatica dei risult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La rilevazione: le prove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1773000"/>
            <a:ext cx="8534160" cy="4321080"/>
          </a:xfrm>
          <a:prstGeom prst="rect">
            <a:avLst/>
          </a:prstGeom>
          <a:solidFill>
            <a:srgbClr val="ebeb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va di italiano</a:t>
            </a:r>
            <a:r>
              <a:rPr b="0" lang="en-US" sz="20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nalizzata ad accertare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capacità di comprensione interpretazione, riflessione e valutazione del testo scritto letterario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 conoscenze e competenze  della struttura della lingua italiana il cui apprendimento è previsto nelle indicazioni curricolari dei vari ordini di scuola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Con QUESITI A RISPOSTA CHIUSA O APERT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1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86920" y="3645000"/>
            <a:ext cx="6985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Sistema Nazionale  di Valutazione (SNV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e modalità organizzati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7280" y="1484280"/>
            <a:ext cx="66978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stema nazionale di valutazione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 2010-1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516640"/>
            <a:ext cx="3384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iero Nat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Dirigente Scolastico I.T.C. “Pascal” di Tera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900000" y="1413000"/>
          <a:ext cx="7786800" cy="5068800"/>
        </p:xfrm>
        <a:graphic>
          <a:graphicData uri="http://schemas.openxmlformats.org/drawingml/2006/table">
            <a:tbl>
              <a:tblPr/>
              <a:tblGrid>
                <a:gridCol w="1917720"/>
                <a:gridCol w="2724120"/>
                <a:gridCol w="3144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lass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ipo di tes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sto letterari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sto non letterari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a prim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rativo (anche con immagin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////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ta Primari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ositivo,narrativo, con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 secondaria 1° grad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r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ositivo,narrativo, descrittivo, con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za secondaria 1° grado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r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ositivo,narrativo, descrittivo, conativo e/o parzialmente argoment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conda secondaria di 2° grado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Narrativo(e/o poetico e/o teatra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positivo,narrativo, descrittivo, conativo e/o  argomentativ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ab. n.1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o di testo per età scola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71640" y="1052640"/>
          <a:ext cx="7870680" cy="5284800"/>
        </p:xfrm>
        <a:graphic>
          <a:graphicData uri="http://schemas.openxmlformats.org/drawingml/2006/table">
            <a:tbl>
              <a:tblPr/>
              <a:tblGrid>
                <a:gridCol w="504720"/>
                <a:gridCol w="1152720"/>
                <a:gridCol w="621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b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 n. 4   ambiti grammatic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tograf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o accenti e apostrofi, maiuscole, minuscole, segmentazione delle parole, uso della doppia casi di non corrispondenza tra fonemi e grafemi (uso  h/q dei digrammi et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olog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ssione (tratti grammaticali: genere , numero, grado, modo, tempo, persona , aspetto , diatesi) categorie lessicali (nome , aggettivo, verbo etc e sottocategorie (agg possessivo, nome proprio etc.)</a:t>
                      </a:r>
                      <a:r>
                        <a:rPr b="0" lang="it-IT" sz="2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zione delle paro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ole derivate , alterate, composte; polirematiche (fero da stiro …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ic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zioni di significato tra parole ; polisemia , campi semantici, famiglie lessicali;usi figurati e principali figure retoriche ; espressioni idiomatiche; struttura ed uso del dizion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an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rdo (tra art e nome – nome e agg – sogg e pred  etc ) sintagma (nominale, verbale, proposizionale) ; frase  minima semplice, complessa;  frase dichiarativa, interrogativa etc; elementi della frase semplice : sogg. Pred, compl predicativi e altri complementi; gerarchia della frase complessa : frase principale , coordinata subordinate ; uso tempi e modi nella frase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ualit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nali di organizzazione del testo e fenomeni di coesione: anafora, connettivi, punteggiatura etc. ; aspetti pragmatici del linguaggio (fenomeni del parlato , funzioni dell’enuncia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189000"/>
            <a:ext cx="739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La rilevazione: le prove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920" y="1557360"/>
            <a:ext cx="8534160" cy="4967280"/>
          </a:xfrm>
          <a:prstGeom prst="rect">
            <a:avLst/>
          </a:prstGeom>
          <a:solidFill>
            <a:srgbClr val="ebeb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va di matematic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e direzioni entro cui costruire i quesiti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 contenuti matematici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 processi coinvolt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attro gli ambiti entro cui si muovon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mer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azio/figur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lazioni/funzion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ti/prevision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51040" indent="-457200"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51040" indent="-457200"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QUESITI A RISPOSTA CHIUSA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5104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domande con risposte a scelta multipla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85104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851040" indent="-457200"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QUESITI A RISPOSTA FALSA/APERT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5104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domande che prevedono semplici risposte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(es. risultato di un calcolo algebrico o numerico, adesione o negazione di una determinata affermazione)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perciò suscettibili di una valutazione rapida e sicur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8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71680" y="1071720"/>
            <a:ext cx="82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Le tappe del piano: fase prelimin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CasellaDiTesto 11"/>
          <p:cNvSpPr/>
          <p:nvPr/>
        </p:nvSpPr>
        <p:spPr>
          <a:xfrm>
            <a:off x="785880" y="2357280"/>
            <a:ext cx="78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tobre/novembre  2010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io delle lettere con i dettagli tecnici a tutti i Dirigenti scolast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 gennaio – 2 febbraio 2011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crizione delle scuole via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tro il 28 febbraio 2011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ubblicazione materiale informativo INVAL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tro 31 marzo 2011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minari di formazione/informazione a livello provinciale/interprovinci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4200" y="928800"/>
            <a:ext cx="86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alibri"/>
              </a:rPr>
              <a:t>Le tappe del piano: materiale per la somminist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CasellaDiTesto 11"/>
          <p:cNvSpPr/>
          <p:nvPr/>
        </p:nvSpPr>
        <p:spPr>
          <a:xfrm>
            <a:off x="714240" y="1785960"/>
            <a:ext cx="79218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entro il 11/20 aprile 2011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nvio alle scuole del materiale per la somministrazion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>
              <a:lnSpc>
                <a:spcPct val="100000"/>
              </a:lnSpc>
              <a:spcAft>
                <a:spcPts val="601"/>
              </a:spcAft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ferma ricezione da parte delle scuole (via web su apposito modul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>
              <a:lnSpc>
                <a:spcPct val="100000"/>
              </a:lnSpc>
              <a:spcAft>
                <a:spcPts val="601"/>
              </a:spcAft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municazione dell’eventuale mancanza di strumenti (via web su apposito modulo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tassativamente entro la data indicata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all’INVALSI 11/30 aprile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>
              <a:lnSpc>
                <a:spcPct val="100000"/>
              </a:lnSpc>
              <a:spcAft>
                <a:spcPts val="601"/>
              </a:spcAft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tantia"/>
              </a:rPr>
              <a:t>ATTENZIONE nel controllo NON aprire i plichi con le sche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entro il 30 aprile 2011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 scuole potranno fare il download delle schede risposta (come per la prova nazionale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>
              <a:lnSpc>
                <a:spcPct val="100000"/>
              </a:lnSpc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Parte I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informazioni di contesto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simili a quelle richieste nella scheda genitori-alunni del SNV 2008-2009 (</a:t>
            </a: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compilazione a carico della segreteria prima dello svolgimento delle prove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>
              <a:lnSpc>
                <a:spcPct val="100000"/>
              </a:lnSpc>
              <a:buClr>
                <a:srgbClr val="dbf5f9"/>
              </a:buClr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361800">
              <a:lnSpc>
                <a:spcPct val="100000"/>
              </a:lnSpc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Parte II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risposte alle domande delle prove e del questionario studente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ove previsto (</a:t>
            </a: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compilazione a carico dell’insegnante o dell’osservatore per le scuole campione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 rot="5400000">
            <a:off x="-2461680" y="3195000"/>
            <a:ext cx="6095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28760" y="85716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alibri"/>
              </a:rPr>
              <a:t>Le tappe del piano: restituzione schede-rispo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asellaDiTesto 11"/>
          <p:cNvSpPr/>
          <p:nvPr/>
        </p:nvSpPr>
        <p:spPr>
          <a:xfrm>
            <a:off x="684360" y="3573360"/>
            <a:ext cx="3024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LASSI CAMP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e1a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10 al 21 maggio 2011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826920" y="1785960"/>
            <a:ext cx="766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schede-rispo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ono essere inviate c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cia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l’indirizzo indicato dall’INVALSI a mezzo spedizione postale nelle seguenti d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003640" y="3573360"/>
            <a:ext cx="33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SSI NON CAMP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 23/05/2011 al 4/06/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28800" y="1214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La restituzione dei risulta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CasellaDiTesto 11"/>
          <p:cNvSpPr/>
          <p:nvPr/>
        </p:nvSpPr>
        <p:spPr>
          <a:xfrm>
            <a:off x="971640" y="2133720"/>
            <a:ext cx="72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Constantia"/>
              </a:rPr>
              <a:t>Report nazionale </a:t>
            </a: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con analisi dei risultati sia a livello di prova che di singola do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Constantia"/>
              </a:rPr>
              <a:t>Report regionali </a:t>
            </a: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con analisi dei risultati sia a livello di prova che di singola do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>
              <a:lnSpc>
                <a:spcPct val="15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Constantia"/>
              </a:rPr>
              <a:t>Approfondimenti specifici </a:t>
            </a: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(anche sulla base di richieste ed indicazioni del mondo della scuo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b1608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71680" y="107172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Le scuole campione e le scuole-p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CasellaDiTesto 11"/>
          <p:cNvSpPr/>
          <p:nvPr/>
        </p:nvSpPr>
        <p:spPr>
          <a:xfrm>
            <a:off x="785880" y="2071800"/>
            <a:ext cx="74880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Aft>
                <a:spcPts val="601"/>
              </a:spcAft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dbf5f9"/>
                </a:solidFill>
                <a:latin typeface="Constantia"/>
              </a:rPr>
              <a:t>piano di campionamento </a:t>
            </a: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analogo a quello della prova naziona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61800">
              <a:lnSpc>
                <a:spcPct val="100000"/>
              </a:lnSpc>
              <a:spcAft>
                <a:spcPts val="601"/>
              </a:spcAft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61800">
              <a:lnSpc>
                <a:spcPct val="100000"/>
              </a:lnSpc>
              <a:spcAft>
                <a:spcPts val="601"/>
              </a:spcAft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rappresentatività reg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61800">
              <a:lnSpc>
                <a:spcPct val="100000"/>
              </a:lnSpc>
              <a:spcAft>
                <a:spcPts val="601"/>
              </a:spcAft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in genere una classe per ogni plesso campionato (mediamente due per Istituzione scolast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61800">
              <a:lnSpc>
                <a:spcPct val="100000"/>
              </a:lnSpc>
              <a:spcAft>
                <a:spcPts val="601"/>
              </a:spcAft>
              <a:buClr>
                <a:srgbClr val="dbf5f9"/>
              </a:buClr>
              <a:buSzPct val="150000"/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 u="sng">
                <a:solidFill>
                  <a:srgbClr val="0b1608"/>
                </a:solidFill>
                <a:uFillTx/>
                <a:latin typeface="Constantia"/>
              </a:rPr>
              <a:t>osservatore esterno retribuito</a:t>
            </a: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 solo dopo l’avvenuto riscontro della ricezione da parte dell’INVALSI delle schede-risposta correttamente compi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61800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61800">
              <a:lnSpc>
                <a:spcPct val="10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individuazione di una </a:t>
            </a:r>
            <a:r>
              <a:rPr b="1" lang="en-US" sz="1800" spc="-1" strike="noStrike">
                <a:solidFill>
                  <a:srgbClr val="dbf5f9"/>
                </a:solidFill>
                <a:latin typeface="Constantia"/>
              </a:rPr>
              <a:t>scuola-polo regionale </a:t>
            </a:r>
            <a:r>
              <a:rPr b="0" lang="en-US" sz="1800" spc="-1" strike="noStrike">
                <a:solidFill>
                  <a:srgbClr val="0b1608"/>
                </a:solidFill>
                <a:latin typeface="Constantia"/>
              </a:rPr>
              <a:t>per la gestione della      parte amministrativa e per l’organizzazione dei semina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42960" y="857160"/>
            <a:ext cx="78166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alibri"/>
              </a:rPr>
              <a:t>Servizio Nazionale di Valutazio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dbf5f9"/>
                </a:solidFill>
                <a:latin typeface="Calibri"/>
              </a:rPr>
              <a:t>il mand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CasellaDiTesto 11"/>
          <p:cNvSpPr/>
          <p:nvPr/>
        </p:nvSpPr>
        <p:spPr>
          <a:xfrm>
            <a:off x="324000" y="1916280"/>
            <a:ext cx="8351640" cy="4757400"/>
          </a:xfrm>
          <a:prstGeom prst="rect">
            <a:avLst/>
          </a:prstGeom>
          <a:noFill/>
          <a:ln cap="rnd" w="2844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1608"/>
                </a:solidFill>
                <a:latin typeface="Constantia"/>
              </a:rPr>
              <a:t>Art. 1, c. 5, Legge 25 ottobre 2007, n. 176: </a:t>
            </a:r>
            <a:r>
              <a:rPr b="0" i="1" lang="en-US" sz="2400" spc="-1" strike="noStrike">
                <a:solidFill>
                  <a:srgbClr val="0b1608"/>
                </a:solidFill>
                <a:latin typeface="Constantia"/>
              </a:rPr>
              <a:t>dall’anno scolastico 2007/08 il Ministro della Pubblica Istruzione fissa con direttiva annuale gli obiettivi della valutazione esterna condotta dal Servizio nazionale di valutazione in relazione al sistema scolastico e ai livelli di apprendimento degli studenti per effettuare verifiche periodiche e sistematiche sulle conoscenze e abilità degli studenti, di norma, alla classe seconda e quinta della scuola primaria, alla prima e terza classe della scuola secondaria di I grado e alla seconda e alla quinta classe del secondo ciclo </a:t>
            </a:r>
            <a:r>
              <a:rPr b="0" lang="en-US" sz="2400" spc="-1" strike="noStrike">
                <a:solidFill>
                  <a:srgbClr val="0b1608"/>
                </a:solidFill>
                <a:latin typeface="Constantia"/>
              </a:rPr>
              <a:t>(…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380880"/>
            <a:ext cx="7270920" cy="6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Quadro Normativo di Riferimento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1267920"/>
            <a:ext cx="73454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608"/>
                </a:solidFill>
                <a:latin typeface="Constantia"/>
              </a:rPr>
              <a:t>Obiettivi della conferenza di Lisbona del 200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608"/>
                </a:solidFill>
                <a:latin typeface="Constantia"/>
              </a:rPr>
              <a:t>Art.1 c.5 L. 25 ott. 2007 n. 176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608"/>
                </a:solidFill>
                <a:latin typeface="Constantia"/>
              </a:rPr>
              <a:t>Direttiva 76 del 06-08-2009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608"/>
                </a:solidFill>
                <a:latin typeface="Constantia"/>
              </a:rPr>
              <a:t>C.M. n. 86 del 22-10-2009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608"/>
                </a:solidFill>
                <a:latin typeface="Constantia"/>
              </a:rPr>
              <a:t>Direttiva triennale 2008/10 (n. 74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608"/>
                </a:solidFill>
                <a:latin typeface="Constantia"/>
              </a:rPr>
              <a:t>Direttiva 2010/11 (n. 67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608"/>
                </a:solidFill>
                <a:latin typeface="Constantia"/>
              </a:rPr>
              <a:t>Nota MIUR 30.12.2011 pubblicata 11.01,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00000" y="4005360"/>
          <a:ext cx="7620120" cy="23749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  <a:gridCol w="1905120"/>
                <a:gridCol w="190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bf5f9"/>
                          </a:solidFill>
                          <a:latin typeface="Tahoma"/>
                        </a:rPr>
                        <a:t>ANNO SCOLA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bf5f9"/>
                          </a:solidFill>
                          <a:latin typeface="Tahom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dbf5f9"/>
                          </a:solidFill>
                          <a:latin typeface="Tahom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dbf5f9"/>
                          </a:solidFill>
                          <a:latin typeface="Tahoma"/>
                        </a:rPr>
                        <a:t>SECONDARIA DI I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2008/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II,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III (prova naziona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2009/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II,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I-III (prova naziona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2010/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II,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I-III (prova naziona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b1608"/>
                          </a:solidFill>
                          <a:latin typeface="Tahoma"/>
                        </a:rPr>
                        <a:t>II,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f5f9"/>
                </a:solidFill>
                <a:latin typeface="Calibri"/>
              </a:rPr>
              <a:t>Perché </a:t>
            </a:r>
            <a:br>
              <a:rPr sz="6000"/>
            </a:br>
            <a:r>
              <a:rPr b="0" lang="en-US" sz="6000" spc="-1" strike="noStrike">
                <a:solidFill>
                  <a:srgbClr val="dbf5f9"/>
                </a:solidFill>
                <a:latin typeface="Calibri"/>
              </a:rPr>
              <a:t>un sistema di valutazione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348000" y="3573360"/>
            <a:ext cx="2354400" cy="235440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Immagine del logo dell'Invalsi"/>
          <p:cNvPicPr/>
          <p:nvPr/>
        </p:nvPicPr>
        <p:blipFill>
          <a:blip r:embed="rId3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4920" y="907560"/>
            <a:ext cx="83818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È necessario un sistema di valutazione esterno delle scuole per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997360"/>
            <a:ext cx="338436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CIRE DALLA AUTOREFERENZIALIT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4869000"/>
            <a:ext cx="655164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VERE PUNTI DI RIFERIMENTO E CONFRONTO ESTER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2924280"/>
            <a:ext cx="280800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ALORIZZARE L’ATTIVITA’ DI OGNI SCU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8124000">
            <a:off x="2123280" y="2133360"/>
            <a:ext cx="1513080" cy="14292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3058800">
            <a:off x="5724360" y="2060640"/>
            <a:ext cx="1439640" cy="144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275280" y="3140640"/>
            <a:ext cx="2736720" cy="144360"/>
          </a:xfrm>
          <a:custGeom>
            <a:avLst/>
            <a:gdLst>
              <a:gd name="textAreaLeft" fmla="*/ 427320 w 2736720"/>
              <a:gd name="textAreaRight" fmla="*/ 2394720 w 27367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189000"/>
            <a:ext cx="739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32000" y="549000"/>
            <a:ext cx="5905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COMPRENDERE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573360"/>
            <a:ext cx="27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PUNTI DI CRITICIT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4941720"/>
            <a:ext cx="475164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DIFFERENZE TRA LE VARIE SCU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357720"/>
            <a:ext cx="374508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A FARE PER MIGLIOR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1984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773360"/>
            <a:ext cx="1890720" cy="216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2340000" y="2492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492280"/>
            <a:ext cx="712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2492280"/>
            <a:ext cx="865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logo" descr="Immagine del logo dell'Invalsi"/>
          <p:cNvPicPr/>
          <p:nvPr/>
        </p:nvPicPr>
        <p:blipFill>
          <a:blip r:embed="rId4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4140360" y="1125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000080" y="404640"/>
            <a:ext cx="7129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FINALITA’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della rilev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CasellaDiTesto 11"/>
          <p:cNvSpPr/>
          <p:nvPr/>
        </p:nvSpPr>
        <p:spPr>
          <a:xfrm>
            <a:off x="539640" y="1700280"/>
            <a:ext cx="8136000" cy="1312920"/>
          </a:xfrm>
          <a:prstGeom prst="rect">
            <a:avLst/>
          </a:prstGeom>
          <a:noFill/>
          <a:ln cap="rnd" w="2844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1608"/>
                </a:solidFill>
                <a:latin typeface="Constantia"/>
              </a:rPr>
              <a:t>fornire alle singole scuole uno strumento di diagnosi p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944600">
            <a:off x="6840" y="436536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1608"/>
                </a:solidFill>
                <a:latin typeface="Arial"/>
              </a:rPr>
              <a:t>migliorare il proprio lav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55000">
            <a:off x="4426560" y="4508280"/>
            <a:ext cx="4478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1608"/>
                </a:solidFill>
                <a:latin typeface="Arial"/>
              </a:rPr>
              <a:t>individuare le aree d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1608"/>
                </a:solidFill>
                <a:latin typeface="Arial"/>
              </a:rPr>
              <a:t>eccellenza VS problematiche</a:t>
            </a:r>
            <a:r>
              <a:rPr b="0" lang="en-US" sz="1800" spc="-1" strike="noStrike">
                <a:solidFill>
                  <a:srgbClr val="0b16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1608"/>
                </a:solidFill>
                <a:latin typeface="Arial"/>
              </a:rPr>
              <a:t>in ITA/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83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asellaDiTesto 11"/>
          <p:cNvSpPr/>
          <p:nvPr/>
        </p:nvSpPr>
        <p:spPr>
          <a:xfrm>
            <a:off x="611280" y="1857240"/>
            <a:ext cx="7532640" cy="4362840"/>
          </a:xfrm>
          <a:prstGeom prst="rect">
            <a:avLst/>
          </a:prstGeom>
          <a:noFill/>
          <a:ln cap="rnd" w="2844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i 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ati appartengono esclusivamente alla singola scuola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lla quale sono restituiti nel modo più disaggregato possibile, cioè secondo la distribuzione delle risposte domanda per doma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la restituzion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dei risultati della misurazione degli apprendimenti avviene sia in forma grezza, sia dopo averli opportunamente depurati dai dati di contesto e da tutti quegli elementi estranei all’attività della scuola, che possono influenzare il profitto degli alun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 algn="just">
              <a:lnSpc>
                <a:spcPct val="100000"/>
              </a:lnSpc>
              <a:buClr>
                <a:srgbClr val="0b16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la pubblicazion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di ulteriori analisi viene effettuata dall’INVALSI solo ed esclusivamente su dati aggregati per garantire l’anonimato degli allievi e delle singole scu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ttangolo 2"/>
          <p:cNvSpPr/>
          <p:nvPr/>
        </p:nvSpPr>
        <p:spPr>
          <a:xfrm>
            <a:off x="2571840" y="8571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Calibri"/>
              </a:rPr>
              <a:t>Implic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logo" descr="Immagine del logo dell'Invalsi"/>
          <p:cNvPicPr/>
          <p:nvPr/>
        </p:nvPicPr>
        <p:blipFill>
          <a:blip r:embed="rId2"/>
          <a:stretch/>
        </p:blipFill>
        <p:spPr>
          <a:xfrm flipH="1">
            <a:off x="178920" y="260280"/>
            <a:ext cx="739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8:40:06Z</dcterms:created>
  <dc:creator>piero xmas</dc:creator>
  <dc:description/>
  <dc:language>en-US</dc:language>
  <cp:lastModifiedBy>piero</cp:lastModifiedBy>
  <dcterms:modified xsi:type="dcterms:W3CDTF">2011-03-30T02:34:08Z</dcterms:modified>
  <cp:revision>78</cp:revision>
  <dc:subject/>
  <dc:title>snv</dc:title>
</cp:coreProperties>
</file>