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694-2733-446B-A80F-3719AA2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0AB-C2BD-4076-82DD-C09A693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93A-E0F9-46F9-82A2-5E117689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319-80E3-451D-8FAC-C2269CF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6F2-ED65-4B56-9E3B-D88F87ED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3C2-48E0-4834-B69F-E179F36A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A96-4FF5-4335-8976-5CF25F6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36A-8A53-4849-9A62-96614C7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AB0-14BC-40A2-B274-5680D668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4C6-0C2D-4A37-BA1B-6525D44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5C9-8ED6-44E5-9571-40640C0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840-4F93-41F6-8015-8BDE450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09F-6616-4EF2-90CD-694DD2D9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5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" Target="slide19.xml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0.xml"/><Relationship Id="rId4" Type="http://schemas.openxmlformats.org/officeDocument/2006/relationships/slide" Target=""/><Relationship Id="rId5" Type="http://schemas.openxmlformats.org/officeDocument/2006/relationships/slide" Target="slide29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2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mailto:join-tutortic-nomedellaregione@www3.indire.it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85080" cy="438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8067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iano Nazionale di Formazione sulle Competenze Informatiche e Tecnologiche del Personal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Sviluppo dell’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V="1">
            <a:off x="555480" y="1186920"/>
            <a:ext cx="7468560" cy="47635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468440"/>
            <a:ext cx="1600200" cy="119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" y="3716280"/>
            <a:ext cx="2624040" cy="7923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uale gen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 piattaforme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743200"/>
            <a:ext cx="1905120" cy="4572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Learning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219320"/>
            <a:ext cx="1676160" cy="3808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5300640"/>
            <a:ext cx="2738160" cy="463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Centrate sul conten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5950080"/>
            <a:ext cx="1905120" cy="4572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tandard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CORM/A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2637000"/>
            <a:ext cx="3988080" cy="720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ate sull’u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e appr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alle conoscenze alle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3657600"/>
            <a:ext cx="1905120" cy="4572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tandard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on dispo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Ambiente integrato di 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295280"/>
            <a:ext cx="8763120" cy="502920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295280"/>
            <a:ext cx="82296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Creazione di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come sistema a legame debole: i sistemi deboli non si possono validare come i sistemi forti (possono però contenere come sotto-sistemi alcuni sistemi forti [cors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NON di uno o più corsi di formazione ‘a distanz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gli obiettivi di un corso sono definiti in modo rigido: si raggiungono o me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ha un obiettivo che non può essere raggiu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la gran parte dei corsi finiscono ad un certo pu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l’ambiente di apprendimento non ha ‘mai fine’: è sempre aggiornato, integrato e trasformato: i suoi confini sono le limitazioni delle risorse (es. livello e definizione del domini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negli ambienti di apprendimento sono centrali le attività e non gli oggetti (nella fad spesso sono centrali il materiale didattico e i med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447920"/>
            <a:ext cx="8381880" cy="480060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Non tutti all’interno di un ambiente di apprendimento imparano le stesse c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La progettazione degli ambienti di apprendimento e la progettazione educativa (utilizzo della teoria dei sistemi deboli nella progettazione).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non è un corso o un programma di un corso.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è qualcosa di diverso da una enciclopedia ,da una raccolta di contenuti, qualcosa di più di un ambiente di esercitazioni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Un ambiente di apprendimento è un sistema sociale centrato sullo sviluppo permanente e sulla attestazione della conoscenza e delle  competenze umane in un particolare do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77004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Caratteristiche princip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00360" y="2492280"/>
            <a:ext cx="3600360" cy="1800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aratteristich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ll’ambiente di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505320"/>
            <a:ext cx="2133720" cy="10666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ondivisione delle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esperienze di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e-learning in corso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447920"/>
            <a:ext cx="251460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viluppo di un ambiente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di apprendimento on line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er la formazione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degli insegn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7960" y="5257800"/>
            <a:ext cx="3400560" cy="1050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Piattaforma di e-learning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dedicata alla 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degli insegnanti con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caratteristiche open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581280"/>
            <a:ext cx="220968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Ambiente che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i basa su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ompetenze e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ON sui contenu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14440"/>
            <a:ext cx="2378160" cy="1150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etodologia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entrata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ull’insegnante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in 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35640" y="2133720"/>
            <a:ext cx="45720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0920" y="4043160"/>
            <a:ext cx="79452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47400" y="2157120"/>
            <a:ext cx="402120" cy="31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44760" y="4075200"/>
            <a:ext cx="459720" cy="164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377960" y="4370400"/>
            <a:ext cx="6120" cy="784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400" y="685440"/>
            <a:ext cx="21272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9072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71680" y="2028960"/>
            <a:ext cx="6467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I contenuti dei moduli del "Percorso Formativo A" sono stati progettati come materiali di supporto alla formazione in aula e sono stati organizzati in modo che l'insegnante iscritto possa scegliere liberamente le attività e gli approfondimenti che gli sono più utili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Non è prevista alcuna certificazione tramite crediti dell'attività svolta on lin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I materiali non sono strutturati in una logica di percorso di formazione e-learning, secondo il modello Punto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BD06663_" descr=""/>
          <p:cNvPicPr/>
          <p:nvPr/>
        </p:nvPicPr>
        <p:blipFill>
          <a:blip r:embed="rId5"/>
          <a:stretch/>
        </p:blipFill>
        <p:spPr>
          <a:xfrm>
            <a:off x="304920" y="1447920"/>
            <a:ext cx="1803240" cy="1563480"/>
          </a:xfrm>
          <a:prstGeom prst="rect">
            <a:avLst/>
          </a:prstGeom>
          <a:ln w="0">
            <a:noFill/>
          </a:ln>
        </p:spPr>
      </p:pic>
      <p:pic>
        <p:nvPicPr>
          <p:cNvPr id="107" name="p_a" descr=""/>
          <p:cNvPicPr/>
          <p:nvPr/>
        </p:nvPicPr>
        <p:blipFill>
          <a:blip r:embed="rId6"/>
          <a:stretch/>
        </p:blipFill>
        <p:spPr>
          <a:xfrm>
            <a:off x="7932600" y="838080"/>
            <a:ext cx="98280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9072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2800" y="7621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7980800">
            <a:off x="2382120" y="1256040"/>
            <a:ext cx="3787560" cy="6215040"/>
          </a:xfrm>
          <a:custGeom>
            <a:avLst/>
            <a:gdLst>
              <a:gd name="textAreaLeft" fmla="*/ 507240 w 3787560"/>
              <a:gd name="textAreaRight" fmla="*/ 3280320 w 3787560"/>
              <a:gd name="textAreaTop" fmla="*/ 1087560 h 6215040"/>
              <a:gd name="textAreaBottom" fmla="*/ 4506120 h 62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3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" y="1371600"/>
            <a:ext cx="775332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Materiali per le competenze informatiche di base </a:t>
            </a:r>
            <a:br>
              <a:rPr sz="1400"/>
            </a:b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7 moduli di base secondo il modello ECDL e 7 moduli sull'uso delle TIC nella didat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Materiale esemplificativo di supporto al contenuto dei primi 7 moduli</a:t>
            </a:r>
            <a:br>
              <a:rPr sz="1400"/>
            </a:b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Simulazioni ed esercitazioni. Test di valutazione generati automaticamente da un Database di items. Selezioni di siti Internet organizzati per moduli e per aree disciplina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Forum </a:t>
            </a:r>
            <a:br>
              <a:rPr sz="1400"/>
            </a:b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Aree di discussione tra corsisti e associazioni disciplinari sul rapporto problematico tra le TIC e le discip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Risorse in rete </a:t>
            </a:r>
            <a:br>
              <a:rPr sz="1400"/>
            </a:b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Risorse presenti in rete sulle TIC e il loro utilizzo nella didat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Spazio classe</a:t>
            </a:r>
            <a:br>
              <a:rPr sz="1400"/>
            </a:b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Forum riservato a ciascuna classe per discutere, approfondire, ampliare il lavoro svolto in prese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Spazio riservato alle Direzion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_a" descr=""/>
          <p:cNvPicPr/>
          <p:nvPr/>
        </p:nvPicPr>
        <p:blipFill>
          <a:blip r:embed="rId8"/>
          <a:stretch/>
        </p:blipFill>
        <p:spPr>
          <a:xfrm>
            <a:off x="7932600" y="838080"/>
            <a:ext cx="98280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853560"/>
            <a:ext cx="5184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A  - Un po’ di da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902000">
            <a:off x="2754000" y="715680"/>
            <a:ext cx="3787920" cy="7162920"/>
          </a:xfrm>
          <a:custGeom>
            <a:avLst/>
            <a:gdLst>
              <a:gd name="textAreaLeft" fmla="*/ 507240 w 3787920"/>
              <a:gd name="textAreaRight" fmla="*/ 3280680 w 3787920"/>
              <a:gd name="textAreaTop" fmla="*/ 1253520 h 7162920"/>
              <a:gd name="textAreaBottom" fmla="*/ 5193360 h 716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3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1219320"/>
            <a:ext cx="1600200" cy="11430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9.662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tenti iscr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666880"/>
            <a:ext cx="1600200" cy="1143000"/>
          </a:xfrm>
          <a:prstGeom prst="ellipse">
            <a:avLst/>
          </a:prstGeom>
          <a:solidFill>
            <a:srgbClr val="feedae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.238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743200"/>
            <a:ext cx="1600200" cy="1143000"/>
          </a:xfrm>
          <a:prstGeom prst="ellipse">
            <a:avLst/>
          </a:prstGeom>
          <a:solidFill>
            <a:srgbClr val="ffffcb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0.424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egn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419720"/>
            <a:ext cx="2362320" cy="18288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.452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utor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ià attivi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nto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4"/>
            <a:endCxn id="120" idx="0"/>
          </p:cNvCxnSpPr>
          <p:nvPr/>
        </p:nvCxnSpPr>
        <p:spPr>
          <a:xfrm flipH="1" rot="16200000">
            <a:off x="4991400" y="1599840"/>
            <a:ext cx="305280" cy="1829520"/>
          </a:xfrm>
          <a:prstGeom prst="bentConnector3">
            <a:avLst>
              <a:gd name="adj1" fmla="val 49940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9" idx="4"/>
            <a:endCxn id="121" idx="0"/>
          </p:cNvCxnSpPr>
          <p:nvPr/>
        </p:nvCxnSpPr>
        <p:spPr>
          <a:xfrm rot="5400000">
            <a:off x="3237840" y="1752480"/>
            <a:ext cx="381600" cy="1600920"/>
          </a:xfrm>
          <a:prstGeom prst="bentConnector3">
            <a:avLst>
              <a:gd name="adj1" fmla="val 49952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09480" y="4419720"/>
            <a:ext cx="2362320" cy="18288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9.148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egnanti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ià attivi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nto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4"/>
            <a:endCxn id="125" idx="0"/>
          </p:cNvCxnSpPr>
          <p:nvPr/>
        </p:nvCxnSpPr>
        <p:spPr>
          <a:xfrm rot="5400000">
            <a:off x="1942200" y="3733560"/>
            <a:ext cx="534240" cy="839160"/>
          </a:xfrm>
          <a:prstGeom prst="bentConnector3">
            <a:avLst>
              <a:gd name="adj1" fmla="val 49966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0" idx="4"/>
            <a:endCxn id="122" idx="0"/>
          </p:cNvCxnSpPr>
          <p:nvPr/>
        </p:nvCxnSpPr>
        <p:spPr>
          <a:xfrm flipH="1" rot="16200000">
            <a:off x="6362640" y="3504960"/>
            <a:ext cx="610560" cy="1219680"/>
          </a:xfrm>
          <a:prstGeom prst="bentConnector3">
            <a:avLst>
              <a:gd name="adj1" fmla="val 49970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pic>
        <p:nvPicPr>
          <p:cNvPr id="128" name="p_a" descr=""/>
          <p:cNvPicPr/>
          <p:nvPr/>
        </p:nvPicPr>
        <p:blipFill>
          <a:blip r:embed="rId2"/>
          <a:stretch/>
        </p:blipFill>
        <p:spPr>
          <a:xfrm>
            <a:off x="7932600" y="838080"/>
            <a:ext cx="98280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238880" y="601992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746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 materiali del percorso B sono strutturati secondo il modello di formazione PuntoEdu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4560" y="5661000"/>
            <a:ext cx="5329080" cy="45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pazio riservato alle Direzioni Reg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8000" y="32148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0880" y="3141720"/>
            <a:ext cx="1791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61080" y="321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42920" y="2116080"/>
            <a:ext cx="692784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5157720"/>
            <a:ext cx="236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Risorse in 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0000" y="4718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ontri in pres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72428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T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116000" y="3672000"/>
            <a:ext cx="1789200" cy="80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3679920" y="3716280"/>
            <a:ext cx="1752480" cy="795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87280" y="5229360"/>
            <a:ext cx="2448000" cy="360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732640"/>
            <a:ext cx="5400720" cy="433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1143000" y="2205000"/>
            <a:ext cx="1800360" cy="863640"/>
          </a:xfrm>
          <a:custGeom>
            <a:avLst/>
            <a:gdLst>
              <a:gd name="textAreaLeft" fmla="*/ 55800 w 1800360"/>
              <a:gd name="textAreaRight" fmla="*/ 1744560 w 1800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2205000"/>
            <a:ext cx="1728720" cy="86364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645000"/>
            <a:ext cx="1728720" cy="86364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2349360"/>
            <a:ext cx="1728720" cy="86364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6920" y="3645000"/>
            <a:ext cx="1728720" cy="86364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5157720"/>
            <a:ext cx="2448000" cy="358920"/>
          </a:xfrm>
          <a:custGeom>
            <a:avLst/>
            <a:gdLst>
              <a:gd name="textAreaLeft" fmla="*/ 23040 w 2448000"/>
              <a:gd name="textAreaRight" fmla="*/ 2424960 w 244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47196" h="21600">
                <a:moveTo>
                  <a:pt x="0" y="0"/>
                </a:moveTo>
                <a:lnTo>
                  <a:pt x="147196" y="0"/>
                </a:lnTo>
                <a:lnTo>
                  <a:pt x="147196" y="21600"/>
                </a:lnTo>
                <a:lnTo>
                  <a:pt x="0" y="21600"/>
                </a:lnTo>
                <a:close/>
              </a:path>
              <a:path fill="lightenLess" w="147196" h="21600">
                <a:moveTo>
                  <a:pt x="0" y="0"/>
                </a:moveTo>
                <a:lnTo>
                  <a:pt x="147196" y="0"/>
                </a:lnTo>
                <a:lnTo>
                  <a:pt x="145796" y="1400"/>
                </a:lnTo>
                <a:lnTo>
                  <a:pt x="1400" y="1400"/>
                </a:lnTo>
                <a:close/>
              </a:path>
              <a:path fill="darken" w="147196" h="21600">
                <a:moveTo>
                  <a:pt x="147196" y="0"/>
                </a:moveTo>
                <a:lnTo>
                  <a:pt x="147196" y="21600"/>
                </a:lnTo>
                <a:lnTo>
                  <a:pt x="145796" y="20200"/>
                </a:lnTo>
                <a:lnTo>
                  <a:pt x="145796" y="1400"/>
                </a:lnTo>
                <a:close/>
              </a:path>
              <a:path fill="darkenLess" w="147196" h="21600">
                <a:moveTo>
                  <a:pt x="147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796" y="20200"/>
                </a:lnTo>
                <a:close/>
              </a:path>
              <a:path fill="lighten" w="147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661000"/>
            <a:ext cx="5472000" cy="504720"/>
          </a:xfrm>
          <a:custGeom>
            <a:avLst/>
            <a:gdLst>
              <a:gd name="textAreaLeft" fmla="*/ 32400 w 5472000"/>
              <a:gd name="textAreaRight" fmla="*/ 5439600 w 547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4028" h="21600">
                <a:moveTo>
                  <a:pt x="0" y="0"/>
                </a:moveTo>
                <a:lnTo>
                  <a:pt x="234028" y="0"/>
                </a:lnTo>
                <a:lnTo>
                  <a:pt x="234028" y="21600"/>
                </a:lnTo>
                <a:lnTo>
                  <a:pt x="0" y="21600"/>
                </a:lnTo>
                <a:close/>
              </a:path>
              <a:path fill="lightenLess" w="234028" h="21600">
                <a:moveTo>
                  <a:pt x="0" y="0"/>
                </a:moveTo>
                <a:lnTo>
                  <a:pt x="234028" y="0"/>
                </a:lnTo>
                <a:lnTo>
                  <a:pt x="232628" y="1400"/>
                </a:lnTo>
                <a:lnTo>
                  <a:pt x="1400" y="1400"/>
                </a:lnTo>
                <a:close/>
              </a:path>
              <a:path fill="darken" w="234028" h="21600">
                <a:moveTo>
                  <a:pt x="234028" y="0"/>
                </a:moveTo>
                <a:lnTo>
                  <a:pt x="234028" y="21600"/>
                </a:lnTo>
                <a:lnTo>
                  <a:pt x="232628" y="20200"/>
                </a:lnTo>
                <a:lnTo>
                  <a:pt x="232628" y="1400"/>
                </a:lnTo>
                <a:close/>
              </a:path>
              <a:path fill="darkenLess" w="234028" h="21600">
                <a:moveTo>
                  <a:pt x="234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28" y="20200"/>
                </a:lnTo>
                <a:close/>
              </a:path>
              <a:path fill="lighten" w="234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B" descr=""/>
          <p:cNvPicPr/>
          <p:nvPr/>
        </p:nvPicPr>
        <p:blipFill>
          <a:blip r:embed="rId8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853560"/>
            <a:ext cx="5184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  - Un po’ di da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902000">
            <a:off x="2754000" y="715680"/>
            <a:ext cx="3787920" cy="7162920"/>
          </a:xfrm>
          <a:custGeom>
            <a:avLst/>
            <a:gdLst>
              <a:gd name="textAreaLeft" fmla="*/ 507240 w 3787920"/>
              <a:gd name="textAreaRight" fmla="*/ 3280680 w 3787920"/>
              <a:gd name="textAreaTop" fmla="*/ 1253520 h 7162920"/>
              <a:gd name="textAreaBottom" fmla="*/ 5193360 h 716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3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1219320"/>
            <a:ext cx="1600200" cy="11430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.353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tenti iscr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666880"/>
            <a:ext cx="1600200" cy="1143000"/>
          </a:xfrm>
          <a:prstGeom prst="ellipse">
            <a:avLst/>
          </a:prstGeom>
          <a:solidFill>
            <a:srgbClr val="feedae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74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743200"/>
            <a:ext cx="1600200" cy="1143000"/>
          </a:xfrm>
          <a:prstGeom prst="ellipse">
            <a:avLst/>
          </a:prstGeom>
          <a:solidFill>
            <a:srgbClr val="ffffcb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.708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egn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4419720"/>
            <a:ext cx="2362320" cy="18288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76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utor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già attivi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nto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4"/>
            <a:endCxn id="160" idx="0"/>
          </p:cNvCxnSpPr>
          <p:nvPr/>
        </p:nvCxnSpPr>
        <p:spPr>
          <a:xfrm flipH="1" rot="16200000">
            <a:off x="4991400" y="1599840"/>
            <a:ext cx="305280" cy="1829520"/>
          </a:xfrm>
          <a:prstGeom prst="bentConnector3">
            <a:avLst>
              <a:gd name="adj1" fmla="val 49940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9" idx="4"/>
            <a:endCxn id="161" idx="0"/>
          </p:cNvCxnSpPr>
          <p:nvPr/>
        </p:nvCxnSpPr>
        <p:spPr>
          <a:xfrm rot="5400000">
            <a:off x="3237840" y="1752480"/>
            <a:ext cx="381600" cy="1600920"/>
          </a:xfrm>
          <a:prstGeom prst="bentConnector3">
            <a:avLst>
              <a:gd name="adj1" fmla="val 49952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609480" y="4419720"/>
            <a:ext cx="2362320" cy="1828800"/>
          </a:xfrm>
          <a:prstGeom prst="ellipse">
            <a:avLst/>
          </a:prstGeom>
          <a:solidFill>
            <a:srgbClr val="e1f3d5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847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egnanti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già attivi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nto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4"/>
            <a:endCxn id="165" idx="0"/>
          </p:cNvCxnSpPr>
          <p:nvPr/>
        </p:nvCxnSpPr>
        <p:spPr>
          <a:xfrm rot="5400000">
            <a:off x="1942200" y="3733560"/>
            <a:ext cx="534240" cy="839160"/>
          </a:xfrm>
          <a:prstGeom prst="bentConnector3">
            <a:avLst>
              <a:gd name="adj1" fmla="val 49966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4"/>
            <a:endCxn id="162" idx="0"/>
          </p:cNvCxnSpPr>
          <p:nvPr/>
        </p:nvCxnSpPr>
        <p:spPr>
          <a:xfrm flipH="1" rot="16200000">
            <a:off x="6362640" y="3504960"/>
            <a:ext cx="610560" cy="1219680"/>
          </a:xfrm>
          <a:prstGeom prst="bentConnector3">
            <a:avLst>
              <a:gd name="adj1" fmla="val 49970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pic>
        <p:nvPicPr>
          <p:cNvPr id="168" name="pB" descr=""/>
          <p:cNvPicPr/>
          <p:nvPr/>
        </p:nvPicPr>
        <p:blipFill>
          <a:blip r:embed="rId2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685800"/>
            <a:ext cx="6840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I mod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911240" cy="10065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171" name=""/>
          <p:cNvSpPr/>
          <p:nvPr/>
        </p:nvSpPr>
        <p:spPr>
          <a:xfrm>
            <a:off x="2610000" y="1876320"/>
            <a:ext cx="56959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10 moduli su </a:t>
            </a:r>
            <a:r>
              <a:rPr b="0" i="1" lang="it-IT" sz="1600" spc="-1" strike="noStrike">
                <a:solidFill>
                  <a:srgbClr val="000066"/>
                </a:solidFill>
                <a:latin typeface="Verdana"/>
              </a:rPr>
              <a:t>Didattica e tecnologie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(C.M. 55).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Per ogni modulo sono state predisposte tre aree con funzioni diverse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Il modulo in sintesi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: trattazione sintetica delle unità temati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Approfondimenti tematici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: contributi di esperti ipertestualizzati e corredati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da bibliografie, sitografie e spunti per la rifless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Laboratorio: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contenitore di “learning objects” che hanno la funzione primaria di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supporto e di approfondimento delle unità tematiche dei moduli, con spunti operativi per la didat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B" descr=""/>
          <p:cNvPicPr/>
          <p:nvPr/>
        </p:nvPicPr>
        <p:blipFill>
          <a:blip r:embed="rId6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762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Il modello di Punto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468360" y="3068640"/>
            <a:ext cx="1511280" cy="1295280"/>
          </a:xfrm>
          <a:custGeom>
            <a:avLst/>
            <a:gdLst>
              <a:gd name="textAreaLeft" fmla="*/ 83880 w 1511280"/>
              <a:gd name="textAreaRight" fmla="*/ 1427400 w 1511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201" h="21600">
                <a:moveTo>
                  <a:pt x="0" y="0"/>
                </a:moveTo>
                <a:lnTo>
                  <a:pt x="25201" y="0"/>
                </a:lnTo>
                <a:lnTo>
                  <a:pt x="25201" y="21600"/>
                </a:lnTo>
                <a:lnTo>
                  <a:pt x="0" y="21600"/>
                </a:lnTo>
                <a:close/>
              </a:path>
              <a:path fill="lightenLess" w="25201" h="21600">
                <a:moveTo>
                  <a:pt x="0" y="0"/>
                </a:moveTo>
                <a:lnTo>
                  <a:pt x="25201" y="0"/>
                </a:lnTo>
                <a:lnTo>
                  <a:pt x="23801" y="1400"/>
                </a:lnTo>
                <a:lnTo>
                  <a:pt x="1400" y="1400"/>
                </a:lnTo>
                <a:close/>
              </a:path>
              <a:path fill="darken" w="25201" h="21600">
                <a:moveTo>
                  <a:pt x="25201" y="0"/>
                </a:moveTo>
                <a:lnTo>
                  <a:pt x="25201" y="21600"/>
                </a:lnTo>
                <a:lnTo>
                  <a:pt x="23801" y="20200"/>
                </a:lnTo>
                <a:lnTo>
                  <a:pt x="23801" y="1400"/>
                </a:lnTo>
                <a:close/>
              </a:path>
              <a:path fill="darkenLess" w="25201" h="21600">
                <a:moveTo>
                  <a:pt x="25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1" y="20200"/>
                </a:lnTo>
                <a:close/>
              </a:path>
              <a:path fill="lighten" w="25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692360" y="1484280"/>
            <a:ext cx="1511280" cy="1297080"/>
          </a:xfrm>
          <a:custGeom>
            <a:avLst/>
            <a:gdLst>
              <a:gd name="textAreaLeft" fmla="*/ 83880 w 1511280"/>
              <a:gd name="textAreaRight" fmla="*/ 1427400 w 15112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5166" h="21600">
                <a:moveTo>
                  <a:pt x="0" y="0"/>
                </a:moveTo>
                <a:lnTo>
                  <a:pt x="25166" y="0"/>
                </a:lnTo>
                <a:lnTo>
                  <a:pt x="25166" y="21600"/>
                </a:lnTo>
                <a:lnTo>
                  <a:pt x="0" y="21600"/>
                </a:lnTo>
                <a:close/>
              </a:path>
              <a:path fill="lightenLess" w="25166" h="21600">
                <a:moveTo>
                  <a:pt x="0" y="0"/>
                </a:moveTo>
                <a:lnTo>
                  <a:pt x="25166" y="0"/>
                </a:lnTo>
                <a:lnTo>
                  <a:pt x="23766" y="1400"/>
                </a:lnTo>
                <a:lnTo>
                  <a:pt x="1400" y="1400"/>
                </a:lnTo>
                <a:close/>
              </a:path>
              <a:path fill="darken" w="25166" h="21600">
                <a:moveTo>
                  <a:pt x="25166" y="0"/>
                </a:moveTo>
                <a:lnTo>
                  <a:pt x="25166" y="21600"/>
                </a:lnTo>
                <a:lnTo>
                  <a:pt x="23766" y="20200"/>
                </a:lnTo>
                <a:lnTo>
                  <a:pt x="23766" y="1400"/>
                </a:lnTo>
                <a:close/>
              </a:path>
              <a:path fill="darkenLess" w="25166" h="21600">
                <a:moveTo>
                  <a:pt x="2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6" y="20200"/>
                </a:lnTo>
                <a:close/>
              </a:path>
              <a:path fill="lighten" w="2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4067280" y="1413000"/>
            <a:ext cx="1441440" cy="1152360"/>
          </a:xfrm>
          <a:custGeom>
            <a:avLst/>
            <a:gdLst>
              <a:gd name="textAreaLeft" fmla="*/ 74520 w 1441440"/>
              <a:gd name="textAreaRight" fmla="*/ 1366920 w 14414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7017" h="21600">
                <a:moveTo>
                  <a:pt x="0" y="0"/>
                </a:moveTo>
                <a:lnTo>
                  <a:pt x="27017" y="0"/>
                </a:lnTo>
                <a:lnTo>
                  <a:pt x="27017" y="21600"/>
                </a:lnTo>
                <a:lnTo>
                  <a:pt x="0" y="21600"/>
                </a:lnTo>
                <a:close/>
              </a:path>
              <a:path fill="lightenLess" w="27017" h="21600">
                <a:moveTo>
                  <a:pt x="0" y="0"/>
                </a:moveTo>
                <a:lnTo>
                  <a:pt x="27017" y="0"/>
                </a:lnTo>
                <a:lnTo>
                  <a:pt x="25617" y="1400"/>
                </a:lnTo>
                <a:lnTo>
                  <a:pt x="1400" y="1400"/>
                </a:lnTo>
                <a:close/>
              </a:path>
              <a:path fill="darken" w="27017" h="21600">
                <a:moveTo>
                  <a:pt x="27017" y="0"/>
                </a:moveTo>
                <a:lnTo>
                  <a:pt x="27017" y="21600"/>
                </a:lnTo>
                <a:lnTo>
                  <a:pt x="25617" y="20200"/>
                </a:lnTo>
                <a:lnTo>
                  <a:pt x="25617" y="1400"/>
                </a:lnTo>
                <a:close/>
              </a:path>
              <a:path fill="darkenLess" w="27017" h="21600">
                <a:moveTo>
                  <a:pt x="270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7" y="20200"/>
                </a:lnTo>
                <a:close/>
              </a:path>
              <a:path fill="lighten" w="270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6732720" y="1989000"/>
            <a:ext cx="1439640" cy="1152720"/>
          </a:xfrm>
          <a:custGeom>
            <a:avLst/>
            <a:gdLst>
              <a:gd name="textAreaLeft" fmla="*/ 74520 w 1439640"/>
              <a:gd name="textAreaRight" fmla="*/ 1365120 w 1439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7164360" y="3933720"/>
            <a:ext cx="1511280" cy="1295640"/>
          </a:xfrm>
          <a:custGeom>
            <a:avLst/>
            <a:gdLst>
              <a:gd name="textAreaLeft" fmla="*/ 83880 w 1511280"/>
              <a:gd name="textAreaRight" fmla="*/ 1427400 w 1511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194" h="21600">
                <a:moveTo>
                  <a:pt x="0" y="0"/>
                </a:moveTo>
                <a:lnTo>
                  <a:pt x="25194" y="0"/>
                </a:lnTo>
                <a:lnTo>
                  <a:pt x="25194" y="21600"/>
                </a:lnTo>
                <a:lnTo>
                  <a:pt x="0" y="21600"/>
                </a:lnTo>
                <a:close/>
              </a:path>
              <a:path fill="lightenLess" w="25194" h="21600">
                <a:moveTo>
                  <a:pt x="0" y="0"/>
                </a:moveTo>
                <a:lnTo>
                  <a:pt x="25194" y="0"/>
                </a:lnTo>
                <a:lnTo>
                  <a:pt x="23794" y="1400"/>
                </a:lnTo>
                <a:lnTo>
                  <a:pt x="1400" y="1400"/>
                </a:lnTo>
                <a:close/>
              </a:path>
              <a:path fill="darken" w="25194" h="21600">
                <a:moveTo>
                  <a:pt x="25194" y="0"/>
                </a:moveTo>
                <a:lnTo>
                  <a:pt x="25194" y="21600"/>
                </a:lnTo>
                <a:lnTo>
                  <a:pt x="23794" y="20200"/>
                </a:lnTo>
                <a:lnTo>
                  <a:pt x="23794" y="1400"/>
                </a:lnTo>
                <a:close/>
              </a:path>
              <a:path fill="darkenLess" w="25194" h="21600">
                <a:moveTo>
                  <a:pt x="25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4" y="20200"/>
                </a:lnTo>
                <a:close/>
              </a:path>
              <a:path fill="lighten" w="25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ttoni" descr=""/>
          <p:cNvPicPr/>
          <p:nvPr/>
        </p:nvPicPr>
        <p:blipFill>
          <a:blip r:embed="rId7"/>
          <a:stretch/>
        </p:blipFill>
        <p:spPr>
          <a:xfrm>
            <a:off x="304920" y="1184400"/>
            <a:ext cx="838188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3623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enitore di  “learning objects” che hanno la funzione primaria di supporto e di approfondimento sui temi dei corso, con spunti operativi per la didat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848720" y="763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4" action="ppaction://hlinksldjump"/>
          </p:cNvPr>
          <p:cNvSpPr/>
          <p:nvPr/>
        </p:nvSpPr>
        <p:spPr>
          <a:xfrm>
            <a:off x="647712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74628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 : I 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57200" y="1660680"/>
            <a:ext cx="1716120" cy="77760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pic>
        <p:nvPicPr>
          <p:cNvPr id="185" name="pB" descr=""/>
          <p:cNvPicPr/>
          <p:nvPr/>
        </p:nvPicPr>
        <p:blipFill>
          <a:blip r:embed="rId6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740720" y="6281640"/>
            <a:ext cx="1403280" cy="576360"/>
          </a:xfrm>
          <a:custGeom>
            <a:avLst/>
            <a:gdLst>
              <a:gd name="textAreaLeft" fmla="*/ 37080 w 1403280"/>
              <a:gd name="textAreaRight" fmla="*/ 1366200 w 1403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2571" h="21600">
                <a:moveTo>
                  <a:pt x="0" y="0"/>
                </a:moveTo>
                <a:lnTo>
                  <a:pt x="52571" y="0"/>
                </a:lnTo>
                <a:lnTo>
                  <a:pt x="52571" y="21600"/>
                </a:lnTo>
                <a:lnTo>
                  <a:pt x="0" y="21600"/>
                </a:lnTo>
                <a:close/>
              </a:path>
              <a:path fill="lightenLess" w="52571" h="21600">
                <a:moveTo>
                  <a:pt x="0" y="0"/>
                </a:moveTo>
                <a:lnTo>
                  <a:pt x="52571" y="0"/>
                </a:lnTo>
                <a:lnTo>
                  <a:pt x="51171" y="1400"/>
                </a:lnTo>
                <a:lnTo>
                  <a:pt x="1400" y="1400"/>
                </a:lnTo>
                <a:close/>
              </a:path>
              <a:path fill="darken" w="52571" h="21600">
                <a:moveTo>
                  <a:pt x="52571" y="0"/>
                </a:moveTo>
                <a:lnTo>
                  <a:pt x="52571" y="21600"/>
                </a:lnTo>
                <a:lnTo>
                  <a:pt x="51171" y="20200"/>
                </a:lnTo>
                <a:lnTo>
                  <a:pt x="51171" y="1400"/>
                </a:lnTo>
                <a:close/>
              </a:path>
              <a:path fill="darkenLess" w="52571" h="21600">
                <a:moveTo>
                  <a:pt x="52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71" y="20200"/>
                </a:lnTo>
                <a:close/>
              </a:path>
              <a:path fill="lighten" w="52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746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I forum con gli espe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26668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um moderati dagli autori degli approfondimenti tematici dei singoli mod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1660680"/>
            <a:ext cx="1911240" cy="100620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6372360" y="623736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5" action="ppaction://hlinksldjump"/>
          </p:cNvPr>
          <p:cNvSpPr/>
          <p:nvPr/>
        </p:nvSpPr>
        <p:spPr>
          <a:xfrm>
            <a:off x="6440400" y="6308640"/>
            <a:ext cx="1224000" cy="550800"/>
          </a:xfrm>
          <a:custGeom>
            <a:avLst/>
            <a:gdLst>
              <a:gd name="textAreaLeft" fmla="*/ 35640 w 1224000"/>
              <a:gd name="textAreaRight" fmla="*/ 1188360 w 122400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47983" h="21600">
                <a:moveTo>
                  <a:pt x="0" y="0"/>
                </a:moveTo>
                <a:lnTo>
                  <a:pt x="47983" y="0"/>
                </a:lnTo>
                <a:lnTo>
                  <a:pt x="47983" y="21600"/>
                </a:lnTo>
                <a:lnTo>
                  <a:pt x="0" y="21600"/>
                </a:lnTo>
                <a:close/>
              </a:path>
              <a:path fill="lightenLess" w="47983" h="21600">
                <a:moveTo>
                  <a:pt x="0" y="0"/>
                </a:moveTo>
                <a:lnTo>
                  <a:pt x="47983" y="0"/>
                </a:lnTo>
                <a:lnTo>
                  <a:pt x="46583" y="1400"/>
                </a:lnTo>
                <a:lnTo>
                  <a:pt x="1400" y="1400"/>
                </a:lnTo>
                <a:close/>
              </a:path>
              <a:path fill="darken" w="47983" h="21600">
                <a:moveTo>
                  <a:pt x="47983" y="0"/>
                </a:moveTo>
                <a:lnTo>
                  <a:pt x="47983" y="21600"/>
                </a:lnTo>
                <a:lnTo>
                  <a:pt x="46583" y="20200"/>
                </a:lnTo>
                <a:lnTo>
                  <a:pt x="46583" y="1400"/>
                </a:lnTo>
                <a:close/>
              </a:path>
              <a:path fill="darkenLess" w="47983" h="21600">
                <a:moveTo>
                  <a:pt x="47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3" y="20200"/>
                </a:lnTo>
                <a:close/>
              </a:path>
              <a:path fill="lighten" w="47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B" descr=""/>
          <p:cNvPicPr/>
          <p:nvPr/>
        </p:nvPicPr>
        <p:blipFill>
          <a:blip r:embed="rId6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762120"/>
            <a:ext cx="6840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Classe vir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98440" y="1660680"/>
            <a:ext cx="1911240" cy="100620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199" name=""/>
          <p:cNvSpPr/>
          <p:nvPr/>
        </p:nvSpPr>
        <p:spPr>
          <a:xfrm>
            <a:off x="2909880" y="2362320"/>
            <a:ext cx="5396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pazio di incontro tra un gruppo di studenti e il tutor-facilitatore 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iscu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pprofond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mpl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l lavoro svolto in presenza e la fruizione dell’ambiente di apprendimento on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6" action="ppaction://hlinksldjump"/>
          </p:cNvPr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B" descr=""/>
          <p:cNvPicPr/>
          <p:nvPr/>
        </p:nvPicPr>
        <p:blipFill>
          <a:blip r:embed="rId7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762120"/>
            <a:ext cx="6840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Incontri in pres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1413000"/>
            <a:ext cx="625968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ttività in aula con il tutor-facilitatore che hanno la scopo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eare momenti di discussione e di confro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volgere attività di formazione e di laborato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cilitare le attività on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575240"/>
            <a:ext cx="79786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urante gli incontri in presenza si affrontano e si condividono le riflessioni e le indicazioni operative proposte nei laboratori dell’ambiente di apprendimento Puntoedu.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a discussione e lo scambio di opinioni potranno svolgersi anche on line nelle classi virtuali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25520" y="1628640"/>
            <a:ext cx="1784160" cy="80964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B" descr=""/>
          <p:cNvPicPr/>
          <p:nvPr/>
        </p:nvPicPr>
        <p:blipFill>
          <a:blip r:embed="rId7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746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Il tutor-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20840" y="1628640"/>
            <a:ext cx="1788840" cy="80964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214" name=""/>
          <p:cNvSpPr/>
          <p:nvPr/>
        </p:nvSpPr>
        <p:spPr>
          <a:xfrm>
            <a:off x="2394000" y="1484280"/>
            <a:ext cx="621648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Il tutor-facilitatore è un insegnante che coordina le iniziative in presenza e facilita le attività di formazione in rete. In particol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coordina le attività proposte nel percorso di formazione 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esercita una funzione di supporto ai docent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sull’utilizzo delle nuove tecnologi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sulla personalizzazione dei percorsi di apprendim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nella riflessione critica sui materia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1040" y="5645160"/>
            <a:ext cx="8452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I tutor-facilitatori avranno, inoltre, una funzione di monitoraggio e documentazione delle attività svolte dai singoli insegnan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B" descr=""/>
          <p:cNvPicPr/>
          <p:nvPr/>
        </p:nvPicPr>
        <p:blipFill>
          <a:blip r:embed="rId6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746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Supporto al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0840" y="1628640"/>
            <a:ext cx="1788840" cy="80964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222" name=""/>
          <p:cNvSpPr/>
          <p:nvPr/>
        </p:nvSpPr>
        <p:spPr>
          <a:xfrm>
            <a:off x="2305080" y="2286000"/>
            <a:ext cx="569592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Il tutor-facilitatore ha a disposiz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Area forum gestita da INDIRE per l’assistenza tecnica e didattica sull’uso di PuntoEdu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Attività di formazione gestite dalla SSIS dell’Università di Ca’ Foscari (Venez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B" descr=""/>
          <p:cNvPicPr/>
          <p:nvPr/>
        </p:nvPicPr>
        <p:blipFill>
          <a:blip r:embed="rId5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238880" y="601992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920" y="746280"/>
            <a:ext cx="684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5120" indent="-1905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Percorso B: Le ris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9440" y="2752560"/>
            <a:ext cx="4935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t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alutazione Software Didat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ter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o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ibl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Arial"/>
              </a:rPr>
              <a:t>SD2 – I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Arial"/>
              </a:rPr>
              <a:t>DIA – Immagini per la dida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ltre opportun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600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Risorse presenti in PuntoEdu sulle TIC e sul loro utilizzo nella didat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risorse_rete" descr=""/>
          <p:cNvPicPr/>
          <p:nvPr/>
        </p:nvPicPr>
        <p:blipFill>
          <a:blip r:embed="rId11"/>
          <a:stretch/>
        </p:blipFill>
        <p:spPr>
          <a:xfrm>
            <a:off x="495360" y="1660680"/>
            <a:ext cx="1714320" cy="77760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</p:pic>
      <p:pic>
        <p:nvPicPr>
          <p:cNvPr id="234" name="pB" descr=""/>
          <p:cNvPicPr/>
          <p:nvPr/>
        </p:nvPicPr>
        <p:blipFill>
          <a:blip r:embed="rId12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838080"/>
            <a:ext cx="878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rcorso B: Coordinamento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273528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7280" y="1908000"/>
            <a:ext cx="619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Direzioni regionali hanno a disposi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no spazio web per dare informazioni di carattere locale sulle attività di formazione in co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na mailing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24000" y="1295280"/>
            <a:ext cx="1849320" cy="2089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9280" y="3973680"/>
            <a:ext cx="87854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Per richiedere l’attivazione dello 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spazio web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la Direzione regionale deve invi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una richiesta via fax allo 055/2380511 indicando i nomi dei responsabili (telefono ed e-mail) della formazione tecnologic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Per iscriversi alla 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mailing list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- La Direzione regionale deve inviare una richiesta via fax allo 055/2380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- inviare un messaggio vuoto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join-tutortic-nomedellaregione@www3.indire.it</a:t>
            </a:r>
            <a:br>
              <a:rPr sz="1600"/>
            </a:br>
            <a:r>
              <a:rPr b="0" lang="en-US" sz="1600" spc="-1" strike="noStrike" u="sng">
                <a:solidFill>
                  <a:srgbClr val="333399"/>
                </a:solidFill>
                <a:uFillTx/>
                <a:latin typeface="Verdana"/>
              </a:rPr>
              <a:t>(es. join-tutortic-veneto@www3.indire.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B" descr=""/>
          <p:cNvPicPr/>
          <p:nvPr/>
        </p:nvPicPr>
        <p:blipFill>
          <a:blip r:embed="rId7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762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Il tracciamento in Punto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295280"/>
            <a:ext cx="8381880" cy="5105520"/>
          </a:xfrm>
          <a:prstGeom prst="foldedCorner">
            <a:avLst>
              <a:gd name="adj" fmla="val 12500"/>
            </a:avLst>
          </a:prstGeom>
          <a:solidFill>
            <a:srgbClr val="f2f8e6"/>
          </a:solidFill>
          <a:ln w="9360">
            <a:solidFill>
              <a:srgbClr val="008000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oduli1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143000" cy="7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</p:pic>
      <p:pic>
        <p:nvPicPr>
          <p:cNvPr id="247" name="risorse_rete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066680" cy="68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</p:pic>
      <p:sp>
        <p:nvSpPr>
          <p:cNvPr id="248" name=""/>
          <p:cNvSpPr/>
          <p:nvPr/>
        </p:nvSpPr>
        <p:spPr>
          <a:xfrm>
            <a:off x="3809880" y="1143000"/>
            <a:ext cx="1524240" cy="457200"/>
          </a:xfrm>
          <a:prstGeom prst="flowChartAlternateProcess">
            <a:avLst/>
          </a:prstGeom>
          <a:solidFill>
            <a:srgbClr val="e1f3d5"/>
          </a:solidFill>
          <a:ln w="25560">
            <a:solidFill>
              <a:srgbClr val="008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ccesso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lla piattafo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66688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6668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lasse virtu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isorse in 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8" idx="2"/>
            <a:endCxn id="251" idx="0"/>
          </p:cNvCxnSpPr>
          <p:nvPr/>
        </p:nvCxnSpPr>
        <p:spPr>
          <a:xfrm flipH="1" rot="16200000">
            <a:off x="5282280" y="901440"/>
            <a:ext cx="1054800" cy="2477160"/>
          </a:xfrm>
          <a:prstGeom prst="bentConnector3">
            <a:avLst>
              <a:gd name="adj1" fmla="val 49368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pic>
        <p:nvPicPr>
          <p:cNvPr id="253" name="classe_virt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1066680" cy="65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</p:pic>
      <p:cxnSp>
        <p:nvCxnSpPr>
          <p:cNvPr id="254" name=""/>
          <p:cNvCxnSpPr>
            <a:stCxn id="248" idx="2"/>
            <a:endCxn id="249" idx="0"/>
          </p:cNvCxnSpPr>
          <p:nvPr/>
        </p:nvCxnSpPr>
        <p:spPr>
          <a:xfrm rot="5400000">
            <a:off x="2711160" y="806400"/>
            <a:ext cx="1054800" cy="2667240"/>
          </a:xfrm>
          <a:prstGeom prst="bentConnector3">
            <a:avLst>
              <a:gd name="adj1" fmla="val 49368"/>
            </a:avLst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2"/>
            <a:endCxn id="250" idx="0"/>
          </p:cNvCxnSpPr>
          <p:nvPr/>
        </p:nvCxnSpPr>
        <p:spPr>
          <a:xfrm flipH="1">
            <a:off x="4533480" y="1612800"/>
            <a:ext cx="38880" cy="10548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114560" cy="1371600"/>
          </a:xfrm>
          <a:prstGeom prst="rect">
            <a:avLst/>
          </a:prstGeom>
          <a:ln w="0">
            <a:noFill/>
          </a:ln>
        </p:spPr>
      </p:pic>
      <p:cxnSp>
        <p:nvCxnSpPr>
          <p:cNvPr id="257" name=""/>
          <p:cNvCxnSpPr>
            <a:stCxn id="253" idx="2"/>
            <a:endCxn id="256" idx="0"/>
          </p:cNvCxnSpPr>
          <p:nvPr/>
        </p:nvCxnSpPr>
        <p:spPr>
          <a:xfrm flipH="1" rot="16200000">
            <a:off x="2511360" y="3020760"/>
            <a:ext cx="1478880" cy="2691360"/>
          </a:xfrm>
          <a:prstGeom prst="bentConnector3">
            <a:avLst>
              <a:gd name="adj1" fmla="val 49939"/>
            </a:avLst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endCxn id="247" idx="2"/>
          </p:cNvCxnSpPr>
          <p:nvPr/>
        </p:nvCxnSpPr>
        <p:spPr>
          <a:xfrm flipV="1">
            <a:off x="4571640" y="3654000"/>
            <a:ext cx="2439000" cy="689760"/>
          </a:xfrm>
          <a:prstGeom prst="bentConnector2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46" idx="2"/>
          </p:cNvCxnSpPr>
          <p:nvPr/>
        </p:nvCxnSpPr>
        <p:spPr>
          <a:xfrm flipH="1" flipV="1">
            <a:off x="4533480" y="3671280"/>
            <a:ext cx="38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</p:cxnSp>
      <p:pic>
        <p:nvPicPr>
          <p:cNvPr id="260" name="atti" descr=""/>
          <p:cNvPicPr/>
          <p:nvPr/>
        </p:nvPicPr>
        <p:blipFill>
          <a:blip r:embed="rId6"/>
          <a:stretch/>
        </p:blipFill>
        <p:spPr>
          <a:xfrm>
            <a:off x="4476600" y="426708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52680" y="43434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ttività di tracci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mat2" descr=""/>
          <p:cNvPicPr/>
          <p:nvPr/>
        </p:nvPicPr>
        <p:blipFill>
          <a:blip r:embed="rId7"/>
          <a:stretch/>
        </p:blipFill>
        <p:spPr>
          <a:xfrm>
            <a:off x="1822320" y="3886200"/>
            <a:ext cx="23508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mat2" descr=""/>
          <p:cNvPicPr/>
          <p:nvPr/>
        </p:nvPicPr>
        <p:blipFill>
          <a:blip r:embed="rId8"/>
          <a:stretch/>
        </p:blipFill>
        <p:spPr>
          <a:xfrm>
            <a:off x="4489560" y="3886200"/>
            <a:ext cx="2347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mat2" descr=""/>
          <p:cNvPicPr/>
          <p:nvPr/>
        </p:nvPicPr>
        <p:blipFill>
          <a:blip r:embed="rId9"/>
          <a:stretch/>
        </p:blipFill>
        <p:spPr>
          <a:xfrm>
            <a:off x="6927840" y="3886200"/>
            <a:ext cx="23508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pB" descr=""/>
          <p:cNvPicPr/>
          <p:nvPr/>
        </p:nvPicPr>
        <p:blipFill>
          <a:blip r:embed="rId10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1155960" cy="1905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276720" y="4038480"/>
            <a:ext cx="2819160" cy="259092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523880"/>
            <a:ext cx="5562720" cy="4648320"/>
          </a:xfrm>
          <a:prstGeom prst="verticalScroll">
            <a:avLst>
              <a:gd name="adj" fmla="val 12500"/>
            </a:avLst>
          </a:prstGeom>
          <a:solidFill>
            <a:srgbClr val="f2f8e6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685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Esempio di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401920"/>
            <a:ext cx="4343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tampa del registro di classe che riport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numero di accessi agli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Approfondimenti tematici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dei modu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numero di accessi a ciascun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Laboratorio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numero degli interventi nella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lasse virtuale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numero di accessi alle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Risorse in rete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sservazioni del tu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B" descr=""/>
          <p:cNvPicPr/>
          <p:nvPr/>
        </p:nvPicPr>
        <p:blipFill>
          <a:blip r:embed="rId7"/>
          <a:stretch/>
        </p:blipFill>
        <p:spPr>
          <a:xfrm>
            <a:off x="7943760" y="838080"/>
            <a:ext cx="971640" cy="3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990720"/>
            <a:ext cx="6705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L’esperienza pregressa </a:t>
            </a:r>
            <a:br>
              <a:rPr sz="2400"/>
            </a:b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Formazione neoassunti 2001-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801800"/>
            <a:ext cx="3581280" cy="254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9000" y="2676600"/>
            <a:ext cx="548640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li insegnanti neoassunti nell’anno scolastico 2001-2002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hanno partecipato ad un’esperienza di e-learning, che per dimensioni è forse la più grande in Euro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752480" cy="1981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0c0c0"/>
            </a:outerShdw>
          </a:effectLst>
        </p:spPr>
      </p:pic>
      <p:sp>
        <p:nvSpPr>
          <p:cNvPr id="54" name=""/>
          <p:cNvSpPr/>
          <p:nvPr/>
        </p:nvSpPr>
        <p:spPr>
          <a:xfrm rot="1793400">
            <a:off x="3657600" y="3580920"/>
            <a:ext cx="1371600" cy="533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2895480" cy="144792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nizio dell’esperienz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20 febbrai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343400"/>
            <a:ext cx="2514600" cy="121932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clusio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30 giugn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I nu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135080"/>
            <a:ext cx="53337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Insegnanti neoassunti 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44.734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(insegnanti di tutti i livelli scolastici e di tutte le regioni italiane)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Tutor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2.246</a:t>
            </a:r>
            <a:br>
              <a:rPr sz="1800"/>
            </a:b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Direttori dei corsi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2.373</a:t>
            </a:r>
            <a:br>
              <a:rPr sz="1800"/>
            </a:b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Classi virtuali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2.378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Documenti condivisi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222.082</a:t>
            </a:r>
            <a:br>
              <a:rPr sz="1600"/>
            </a:b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Forum disciplinari seguiti dalle associazioni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42</a:t>
            </a:r>
            <a:br>
              <a:rPr sz="1600"/>
            </a:b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Interventi nei forum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72.660</a:t>
            </a:r>
            <a:br>
              <a:rPr sz="1600"/>
            </a:b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Accessi al sito: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3.000.000 </a:t>
            </a:r>
            <a:br>
              <a:rPr sz="18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(con punte di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4.500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accessi contemporan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880" y="1592280"/>
            <a:ext cx="205740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5867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I risultati dell’esper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057400"/>
            <a:ext cx="7696440" cy="388620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rima vol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 il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93.12%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si è trattato della prima esperienza di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rmazione con l’utilizzo delle T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1.29%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non aveva mai neppure usato il computer 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11.18%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aveva iniziato ad usarlo da pochi mes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73.30%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si è collegato prevalentemente da c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2280" y="1523880"/>
            <a:ext cx="121284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5867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La valutazione dell’esper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381880" cy="472464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90.76%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a dato una valutazione positiva all’esperie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- 14.72%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tti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- 47.26%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uo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- 28.73%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uf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97.26%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itiene che l’ambiente di apprendimento on lin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bba rimanere aperto e continuare ad essere aggiorn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89.35%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itiene utile ripetere un’esperienza di e-learning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urante la propria carriera profess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l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97.42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itiene che debba essere estesa a tutti i doc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60020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be5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987560"/>
            <a:ext cx="807732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Esistono caratteristiche specifiche della formazione degli insegnanti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Dove e quando è preferibile usare l’istruzione dal vivo, quella a distanza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o una forma intermedia tra le du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Quando si deve usare l’ICT e quando 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Come si accreditano le competenz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Si può passare da un sistema passivo - trasmissivo ad uno centrato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sull’attività, sul coinvolgimento attiv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E’ possibile trasformare i contenuti basandoli anche sulle conoscenze </a:t>
            </a:r>
            <a:br>
              <a:rPr sz="1600"/>
            </a:br>
            <a:r>
              <a:rPr b="0" lang="it-IT" sz="1600" spc="-1" strike="noStrike">
                <a:solidFill>
                  <a:srgbClr val="000066"/>
                </a:solidFill>
                <a:latin typeface="Verdana"/>
              </a:rPr>
              <a:t>prodotte dalla scuo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219320"/>
            <a:ext cx="8763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Alcune domande sulla formazione </a:t>
            </a: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della formazione in servizio degli insegnan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219320"/>
            <a:ext cx="8839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578c"/>
                </a:solidFill>
                <a:latin typeface="Arial"/>
              </a:rPr>
              <a:t>Alcune caratteristiche della formazione in servizio degli insegnan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980800">
            <a:off x="2922480" y="1620720"/>
            <a:ext cx="3619440" cy="5448240"/>
          </a:xfrm>
          <a:custGeom>
            <a:avLst/>
            <a:gdLst>
              <a:gd name="textAreaLeft" fmla="*/ 484920 w 3619440"/>
              <a:gd name="textAreaRight" fmla="*/ 3134520 w 3619440"/>
              <a:gd name="textAreaTop" fmla="*/ 953280 h 5448240"/>
              <a:gd name="textAreaBottom" fmla="*/ 3949920 h 544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3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133720"/>
            <a:ext cx="289548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aiutare il pass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dalla teoria alla pratica: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learning by do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2209680"/>
            <a:ext cx="2819520" cy="10670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rapporto tra il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umero degli insegnanti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e la qualità degli interv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800600"/>
            <a:ext cx="320040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ontenuti non solo di tipo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eorico – metodologia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on trasmis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5257800"/>
            <a:ext cx="2743200" cy="9907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ostegno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all’inn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21:48Z</dcterms:created>
  <dc:creator>Francesca Storai</dc:creator>
  <dc:description/>
  <dc:language>en-US</dc:language>
  <cp:lastModifiedBy>Win</cp:lastModifiedBy>
  <dcterms:modified xsi:type="dcterms:W3CDTF">2003-03-19T16:17:06Z</dcterms:modified>
  <cp:revision>118</cp:revision>
  <dc:subject/>
  <dc:title>Piano nazionale  di formazione degli insegnanti sulle TIC</dc:title>
</cp:coreProperties>
</file>