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D04-6009-417A-B4D4-72E4EFA3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F5E-9A96-4BA2-85AD-1E50D3D8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5CD-8B81-4F63-8A8A-2D451012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E1D-A4DD-4B96-8538-80F99D88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2C2D-A464-4DCC-B907-802DA81F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55B-45DD-42D0-89B4-EF224D46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FC63-0F05-4E0D-9038-8C249E1A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085-EAEB-4F9F-96B0-FD668D5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AE82-C1A0-46B9-A6FC-C992394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941D-411E-4BAE-8A20-6429724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BF81-E510-4BE3-A52A-86B5A72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80A-4D36-494A-91D2-739157E2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F534-4E32-402E-A9FF-EE6BF25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1680-573F-4F6E-9F5B-D5F437F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B690-640A-4C78-B86D-160F20EE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4616-419A-46D2-ACD9-F68E2448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B45-E50A-435A-BA5D-FF3CC226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E89-29FB-4065-B018-AFB296A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332-D589-41F0-AA59-E214409E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F98-3AF8-4511-8D46-CAC3160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0EC-A837-40D5-AB72-F4AB295C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431-3C98-4E60-AAE4-A45EE39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F5D-D89A-417B-9F6B-2A8D6423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10E-CEDA-4016-9881-73BF5B9B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D30E-CA98-4676-9D1D-9F6C58218CD7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DA8-A253-470E-BB4E-01FA7A37E69C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Piano Nazionale di Formazione</a:t>
            </a:r>
            <a:br>
              <a:rPr sz="32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cnologie dell’Informazione e della Comunicazione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3962520"/>
            <a:ext cx="6554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USR Regione Abruzz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Referente regionale: Osvaldo Latta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63640" y="404640"/>
            <a:ext cx="2448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76360" y="2781360"/>
            <a:ext cx="64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dalità attuative dei percorsi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260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63640" y="404640"/>
            <a:ext cx="669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- Piano Nazionale ForT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557360"/>
            <a:ext cx="784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ate disponibilità materi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 Genna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6d8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Genn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consiglia di fissare le date di inizio dei percorsi successivamente a tali date indic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508464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inee Guida allegate alla CM 55/02 hanno un intero capitolo dedicato agli aspetti organizzativi dei percor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260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63640" y="404640"/>
            <a:ext cx="669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- Piano Nazionale ForT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628640"/>
            <a:ext cx="82803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igure professionali coinvolte e loro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rettore del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solito coincidente con il dirigente scolastico dell’istituto in cui si tengono i corsi, che sarà il garante del corretto svolgimento dell’attività e avrà il compito di coordinarla; (linee guida 1.6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sponsabile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to dal dirigente scolastico fra il personale docente del proprio istituto, che avrà il compito di assicurare la continuità fra i diversi interventi formativi, tenere rapporti diretti con i corsisti, distribuire i materiali,  curare gli aspetti formali e logistici ecc.; (linee guida 1.6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60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63640" y="404640"/>
            <a:ext cx="669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- Piano Nazionale ForT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1628640"/>
            <a:ext cx="820728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Figure professionali coinvolte e loro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or d’aula, scelti in base alle competenze e alle esperienze possedute rispetto ai temi trattati  nei moduli, che avranno il compito di gestire gli incontri con il supporto dei materiali messi a disposizione. I tutor d’aula cureranno, utilizzando un’apposita piattaforma software in grado di consentire la costituzione di classi virtuali, forme di attività in rete con i corsisti del proprio grupp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stenza in rete,  fornita da chi ha prodotto i materiali,  che offrirà aiuto on-line ai corsisti durante l’attività di autoformazione. (linee guida 1.6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19440" y="3376440"/>
            <a:ext cx="105120" cy="1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60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63640" y="404640"/>
            <a:ext cx="669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- Piano Nazionale ForT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1628640"/>
            <a:ext cx="784836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Figure professionali coinvolte e loro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Arial"/>
              </a:rPr>
              <a:t>Percors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or d’aula con estensione on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Percors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or d’aula con forte componente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c6d80"/>
                </a:solidFill>
                <a:latin typeface="Arial"/>
              </a:rPr>
              <a:t>Percors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utor d’aula con forte componente laborato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260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63640" y="404640"/>
            <a:ext cx="669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- Piano Nazionale ForT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332000" y="141300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nanziamenti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879480" y="2630520"/>
            <a:ext cx="736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ascun istituto scolastico: € 12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s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€ 4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rso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€ 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en-US" sz="2400" spc="-1" strike="noStrike">
                <a:solidFill>
                  <a:srgbClr val="4c6d80"/>
                </a:solidFill>
                <a:latin typeface="Arial"/>
              </a:rPr>
              <a:t>corso C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€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en-US" sz="2400" spc="-1" strike="noStrike">
                <a:solidFill>
                  <a:srgbClr val="4c6d80"/>
                </a:solidFill>
                <a:latin typeface="Arial"/>
              </a:rPr>
              <a:t>corso C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€1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63640" y="404640"/>
            <a:ext cx="669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666699">
                      <a:alpha val="80000"/>
                    </a:srgbClr>
                  </a:outerShdw>
                </a:effectLst>
                <a:latin typeface="Verdana"/>
              </a:rPr>
              <a:t>Abruzzo - Piano Nazionale ForT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6666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95320" cy="95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32000" y="141300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6699"/>
                    </a:gs>
                    <a:gs pos="100000">
                      <a:srgbClr val="3399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ensi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6699"/>
                  </a:gs>
                  <a:gs pos="100000">
                    <a:srgbClr val="3399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879480" y="2630520"/>
            <a:ext cx="736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i compensi alle figure previste si fa riferimento alla normativa vi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.I. 12 Ottobre 1995 n. 3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ensi spettanti per attività di direzione e docenza relativi alle iniziative di formazi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6:09:18Z</dcterms:created>
  <dc:creator>Claudia Valentini</dc:creator>
  <dc:description/>
  <dc:language>en-US</dc:language>
  <cp:lastModifiedBy>Claudia Valentini</cp:lastModifiedBy>
  <dcterms:modified xsi:type="dcterms:W3CDTF">2003-01-23T14:54:56Z</dcterms:modified>
  <cp:revision>101</cp:revision>
  <dc:subject/>
  <dc:title>Piano Nazionale di Formazione Tecnologie dell’Informazione e della Comunicazione</dc:title>
</cp:coreProperties>
</file>