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728-0A27-42AF-8DE2-0960A48A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E0F-8099-4BCE-B298-2AD9C89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1A7-8AE9-403B-B29E-C9003F05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F47-9F3D-468A-B13E-8C7BB55E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455-6CBE-403A-B2CE-B769888E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518C-F8D5-4478-8B41-F365BA1B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B905-8AE2-4F09-9BA7-417F1175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C140-E32A-4F12-874B-95544B8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652B-F19D-4C24-85B0-4505F6C6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351C-B66C-4537-A482-B2A8B382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55F-81C2-4756-947F-AB9E831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C643-DD05-48F6-B1F4-2A82DFC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C61-1861-4F04-B1DB-B9C5980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5702-2752-454F-A0DD-B95D8118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B17B-FA2C-4DC3-85CC-85C8E80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F6E-4674-465E-9CFF-AE5A2C9D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C557-9DA1-40B0-AA0A-D23C89BB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52B8-E998-4B4E-823D-2A9BD97A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BA58-082A-4379-89FA-B7470AB3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63CA-E04B-4880-9BA7-2DCEE26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DCA8-A08E-4623-AC19-1C463DC3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E98-E188-4C29-9D63-43F715B8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0985-5D6F-445A-848A-D45F3D87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BE2C-9511-4C4D-8EEA-9832FFE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C1C1-A361-47A5-A7ED-68028C6E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810F-DF21-4363-978A-5AFC2957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A67F-56C6-45AA-AE20-C24D084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539B-030F-4FD0-B753-E1D21D9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F3F0-7A94-4174-B972-D47436D7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4119-F78C-4B35-A23F-49524AF5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11DF-CF7C-4F7C-A307-94942DD5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8F6-6959-495E-8112-5F8B399F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9A4-AD06-4C8F-9ABE-FDC066A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512-77C2-4840-9563-5AD97AE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7E7-EA5B-4B73-A2C7-6E5C0B7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8B6-5EB7-4836-86F3-38B8ED22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google.it/url?sa=i&amp;rct=j&amp;q=indire&amp;source=images&amp;cd=&amp;cad=rja&amp;docid=EJzBYl-jBGWLOM&amp;tbnid=YlOyeqo4AA57HM:&amp;ved=0CAUQjRw&amp;url=http%3A%2F%2Fwww.nspeak.com%2Fgiorgi%2Ffad%2Findire%2F&amp;ei=cSo6UbfJE4eptAbOgoCAAw&amp;bvm=bv.43287494,d.bGE&amp;psig=AFQjCNEI2Asjt7-IS5bQDRB4WP3LWC4cKw&amp;ust=1362852842660436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8215-0AA0-4C8A-AB0A-D91E1430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6"/>
          <p:cNvSpPr/>
          <p:nvPr/>
        </p:nvSpPr>
        <p:spPr>
          <a:xfrm>
            <a:off x="752472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376092"/>
                </a:solidFill>
                <a:latin typeface="Arial"/>
              </a:rPr>
              <a:t>by Amedeo Di Mas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asellaDiTesto 6"/>
          <p:cNvSpPr/>
          <p:nvPr/>
        </p:nvSpPr>
        <p:spPr>
          <a:xfrm>
            <a:off x="752472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376092"/>
                </a:solidFill>
                <a:latin typeface="Arial"/>
              </a:rPr>
              <a:t>by Amedeo Di Mas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5FA6-98D0-4C8A-87F9-1374C8AAE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nspeak.com/giorgi/fad/indire/logoindir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1008000" cy="411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1476360" y="333360"/>
            <a:ext cx="2743200" cy="576360"/>
          </a:xfrm>
          <a:prstGeom prst="rect">
            <a:avLst/>
          </a:prstGeom>
          <a:ln w="0">
            <a:noFill/>
          </a:ln>
        </p:spPr>
      </p:pic>
      <p:sp>
        <p:nvSpPr>
          <p:cNvPr id="124" name="CasellaDiTesto 8"/>
          <p:cNvSpPr/>
          <p:nvPr/>
        </p:nvSpPr>
        <p:spPr>
          <a:xfrm>
            <a:off x="752472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376092"/>
                </a:solidFill>
                <a:latin typeface="Arial"/>
              </a:rPr>
              <a:t>by Amedeo Di Mas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9F6-F2BA-4387-AF6A-3A3D7CD38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docenti&amp;source=images&amp;cd=&amp;cad=rja&amp;docid=LzyN_PUeORpvxM&amp;tbnid=Z1RbBb7z6GdrxM:&amp;ved=0CAUQjRw&amp;url=http%3A%2F%2Fwww.comprensivocantu3.it%2Fjoomla%2Findex.php%2Fdocenti.html&amp;ei=v7w9UbWePMzjtQaC0YDgDQ&amp;bvm=bv.43287494,d.Yms&amp;psig=AFQjCNGySN_aPSnMM1kFa7RW-iV5-LEc3A&amp;ust=136308690709778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it/url?sa=i&amp;rct=j&amp;q=indire&amp;source=images&amp;cd=&amp;cad=rja&amp;docid=EJzBYl-jBGWLOM&amp;tbnid=YlOyeqo4AA57HM:&amp;ved=0CAUQjRw&amp;url=http%3A%2F%2Fwww.nspeak.com%2Fgiorgi%2Ffad%2Findire%2F&amp;ei=cSo6UbfJE4eptAbOgoCAAw&amp;bvm=bv.43287494,d.bGE&amp;psig=AFQjCNEI2Asjt7-IS5bQDRB4WP3LWC4cKw&amp;ust=136285284266043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tavolo+di+lavoro&amp;source=images&amp;cd=&amp;cad=rja&amp;docid=lZz8w-XsrtkjaM&amp;tbnid=N5afpL03r4u7jM:&amp;ved=0CAUQjRw&amp;url=http%3A%2F%2Fwww.aziendaisola.it%2FTavoloDisabili.htm&amp;ei=Di06UcqOBIartAa8wIDACQ&amp;bvm=bv.43287494,d.bGE&amp;psig=AFQjCNEIVEIP5ojK0ovl23rcU8YZh-bb8Q&amp;ust=1362853478195367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google.it/url?sa=i&amp;rct=j&amp;q=lavoro+al+computer&amp;source=images&amp;cd=&amp;cad=rja&amp;docid=VPQO-PlPTVfvFM&amp;tbnid=COCqiWiQyQcC_M:&amp;ved=0CAUQjRw&amp;url=http%3A%2F%2Fwww.inserire-annunci.com%2F8%2Fannuncio_gratis%2F5_Offerte_di_lavoro%2F38_Commerciale%2F&amp;ei=Py06UeTzJ4WMswaAj4GADw&amp;bvm=bv.43287494,d.bGE&amp;psig=AFQjCNH_87JCL5hpnyz9-8cMbOOK-m6BqA&amp;ust=1362853553570597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sedia+ufficio+vuota&amp;source=images&amp;cd=&amp;cad=rja&amp;docid=WuADiDxKjZHpsM&amp;tbnid=Etfu21L2dz7YxM:&amp;ved=0CAUQjRw&amp;url=http%3A%2F%2Fwww.business.ikea.com%2Fit-it%2Fproducts%2Fs69896322%2F&amp;ei=WTM6Uc-hIYKstAa7q4BA&amp;bvm=bv.43287494,d.bGE&amp;psig=AFQjCNEHYGtIuffyv_OMzx9clc_y98lOcw&amp;ust=1362855121481449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http://www.google.it/url?sa=i&amp;rct=j&amp;q=legge+giornale&amp;source=images&amp;cd=&amp;cad=rja&amp;docid=9P_xdtJbI6f1dM&amp;tbnid=LM-l-9vjTlEdhM:&amp;ved=0CAUQjRw&amp;url=http%3A%2F%2Fwww.ilfoglio.it%2Fsingole%2F182&amp;ei=BzQ6UZLzK8WFtAb5p4GYDw&amp;bvm=bv.43287494,d.bGE&amp;psig=AFQjCNE6r0LvTYdo2NVUGccP3gTqTQNSlw&amp;ust=1362855239716728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asellaDiTesto 4"/>
          <p:cNvSpPr/>
          <p:nvPr/>
        </p:nvSpPr>
        <p:spPr>
          <a:xfrm>
            <a:off x="4716360" y="2421000"/>
            <a:ext cx="41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DOC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NEOASSU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2012/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sellaDiTesto 6"/>
          <p:cNvSpPr/>
          <p:nvPr/>
        </p:nvSpPr>
        <p:spPr>
          <a:xfrm>
            <a:off x="572436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sellaDiTesto 9"/>
          <p:cNvSpPr/>
          <p:nvPr/>
        </p:nvSpPr>
        <p:spPr>
          <a:xfrm>
            <a:off x="4572000" y="508464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Incontro di Accogl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http://www.comprensivocantu3.it/joomla/images/stories/Docenti/docent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557360"/>
            <a:ext cx="4324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539640" y="2421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sistema d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CRED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ttangolo 2"/>
          <p:cNvSpPr/>
          <p:nvPr/>
        </p:nvSpPr>
        <p:spPr>
          <a:xfrm>
            <a:off x="541080" y="1773360"/>
            <a:ext cx="83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la loro quantificazione delle ore on line si ricorre a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3529080" cy="2446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2"/>
          <a:stretch/>
        </p:blipFill>
        <p:spPr>
          <a:xfrm>
            <a:off x="5651640" y="3753000"/>
            <a:ext cx="86508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6588000" y="4437000"/>
            <a:ext cx="86364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7524720" y="4437000"/>
            <a:ext cx="86364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6588000" y="3753000"/>
            <a:ext cx="86364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6"/>
          <a:stretch/>
        </p:blipFill>
        <p:spPr>
          <a:xfrm>
            <a:off x="7524720" y="3753000"/>
            <a:ext cx="863640" cy="68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7"/>
          <a:stretch/>
        </p:blipFill>
        <p:spPr>
          <a:xfrm>
            <a:off x="5724360" y="4437000"/>
            <a:ext cx="86364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8"/>
          <a:stretch/>
        </p:blipFill>
        <p:spPr>
          <a:xfrm>
            <a:off x="5724360" y="5192640"/>
            <a:ext cx="863640" cy="687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9"/>
          <a:stretch/>
        </p:blipFill>
        <p:spPr>
          <a:xfrm>
            <a:off x="6659640" y="5877000"/>
            <a:ext cx="865080" cy="687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10"/>
          <a:stretch/>
        </p:blipFill>
        <p:spPr>
          <a:xfrm>
            <a:off x="7596360" y="5877000"/>
            <a:ext cx="863280" cy="687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11"/>
          <a:stretch/>
        </p:blipFill>
        <p:spPr>
          <a:xfrm>
            <a:off x="6659640" y="5192640"/>
            <a:ext cx="865080" cy="687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12"/>
          <a:stretch/>
        </p:blipFill>
        <p:spPr>
          <a:xfrm>
            <a:off x="7596360" y="5192640"/>
            <a:ext cx="863280" cy="687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13"/>
          <a:stretch/>
        </p:blipFill>
        <p:spPr>
          <a:xfrm>
            <a:off x="5796000" y="5877000"/>
            <a:ext cx="8636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11280" y="177336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Ad ogni 2 crediti matura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corrisponde 1 ora di form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24000" y="3645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PER CUI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987640" y="4653000"/>
            <a:ext cx="3384720" cy="1169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Book Antiqua"/>
              </a:rPr>
              <a:t>25 OR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Book Antiqua"/>
              </a:rPr>
              <a:t>50 CRED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thenextstep.it/wp-content/uploads/2012/07/3228360-ritratto-di-giovane-uomo-d-39-affari-facendo-il-lavoro-svolto-al-computer-nel-parco.jpg"/>
          <p:cNvPicPr/>
          <p:nvPr/>
        </p:nvPicPr>
        <p:blipFill>
          <a:blip r:embed="rId1"/>
          <a:stretch/>
        </p:blipFill>
        <p:spPr>
          <a:xfrm>
            <a:off x="6516720" y="3933720"/>
            <a:ext cx="2178000" cy="2276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www.ultimenotizieflash.com/wp-content/uploads/2011/05/lavoro-al-pc.jpg"/>
          <p:cNvPicPr/>
          <p:nvPr/>
        </p:nvPicPr>
        <p:blipFill>
          <a:blip r:embed="rId2"/>
          <a:stretch/>
        </p:blipFill>
        <p:spPr>
          <a:xfrm>
            <a:off x="395280" y="4076640"/>
            <a:ext cx="23050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6"/>
          <p:cNvSpPr/>
          <p:nvPr/>
        </p:nvSpPr>
        <p:spPr>
          <a:xfrm>
            <a:off x="4788000" y="1700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Book Antiqua"/>
              </a:rPr>
              <a:t>AREE PUNTOEDU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632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788000" y="170028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Book Antiqua"/>
              </a:rPr>
              <a:t>AREE PUNTOEDU 2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95280" y="5527800"/>
            <a:ext cx="8497800" cy="1067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4807"/>
                </a:solidFill>
                <a:latin typeface="Arial"/>
              </a:rPr>
              <a:t>EUROPA E INTER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Arial"/>
              </a:rPr>
              <a:t>Introduzione al concetto di identità e appartenenza, del dialogo interculturale mondiale, della promozione dei diritti umani e dell'edu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Arial"/>
              </a:rPr>
              <a:t>alla 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68360" y="2214720"/>
            <a:ext cx="8424720" cy="1067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TRUMENTI A SUPPORTO DELL’AUTONOMIA SCOLA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Panoramica normativa aggiornata sull’autonomia scolastica e disamina degli strumenti di supporto, quali la progettazione format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la flessibilità organizzativa, la didattica laborator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68360" y="3438360"/>
            <a:ext cx="8207280" cy="1067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Strumenti e metodi per valutare il percorso formativo degli studenti, orientarli al mondo del lavoro e formulare un'autovalutazione della prop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didat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68360" y="4613400"/>
            <a:ext cx="806436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CONTESTI DI VITA E REL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00000"/>
                </a:solidFill>
                <a:latin typeface="Arial"/>
              </a:rPr>
              <a:t>Condizione giovanile e relazioni tra gli attori dell'istituzione scolastica: dirigenti, docenti e stude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4788000" y="1700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Book Antiqua"/>
              </a:rPr>
              <a:t>AREE PUNTOEDU 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39640" y="5516640"/>
            <a:ext cx="799308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Arial"/>
              </a:rPr>
              <a:t>APPROFONDIMENTI DISCIPLIN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228"/>
                </a:solidFill>
                <a:latin typeface="Arial"/>
              </a:rPr>
              <a:t>Spunti didattici innovativi e metodologie formative efficaci divisi per ordine di scuola e discip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95280" y="3500280"/>
            <a:ext cx="842472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TECNOLOGIA E DIDAT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Arial"/>
              </a:rPr>
              <a:t>TIC e didattica: analisi degli strumenti e delle strategie di collaborazione e sperimen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68360" y="4365720"/>
            <a:ext cx="806436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7375e"/>
                </a:solidFill>
                <a:latin typeface="Arial"/>
              </a:rPr>
              <a:t>LINGUA STRAN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375e"/>
                </a:solidFill>
                <a:latin typeface="Arial"/>
              </a:rPr>
              <a:t>Strumenti per l'acquisizione di competenze metodologico-didattiche e progettuali inerenti all'insegnamento e all'apprendimento della 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468360" y="2349360"/>
            <a:ext cx="835164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DISABILITA’ E DISAGIO SCOLA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Strumenti metodologici per distinguere tra disturbi dell'apprendimento specifici, aspecifici e comportament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>
            <a:off x="6227640" y="4797360"/>
            <a:ext cx="2808360" cy="1440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3203640" y="4797360"/>
            <a:ext cx="2808360" cy="1440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250920" y="4797360"/>
            <a:ext cx="2808360" cy="1440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68360" y="1700280"/>
            <a:ext cx="8136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Book Antiqua"/>
              </a:rPr>
              <a:t>AREA 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Book Antiqua"/>
              </a:rPr>
              <a:t>ARGO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Book Antiqua"/>
              </a:rPr>
              <a:t>SOTTOARGO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9640" y="522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MATERIALI DI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73272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708360" y="5302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4284720" y="3068640"/>
            <a:ext cx="5047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1619280" y="4365720"/>
            <a:ext cx="61214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1547640" y="436572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4500720" y="436572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6"/>
          <p:cNvSpPr/>
          <p:nvPr/>
        </p:nvSpPr>
        <p:spPr>
          <a:xfrm>
            <a:off x="7596360" y="436572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79360" y="1773360"/>
            <a:ext cx="8772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624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7885080" cy="1657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www.nspeak.com/giorgi/fad/indire/logoindir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341360"/>
            <a:ext cx="20095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667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riprendere-studiare1"/>
          <p:cNvPicPr/>
          <p:nvPr/>
        </p:nvPicPr>
        <p:blipFill>
          <a:blip r:embed="rId1"/>
          <a:stretch/>
        </p:blipFill>
        <p:spPr>
          <a:xfrm>
            <a:off x="4859280" y="2924280"/>
            <a:ext cx="369108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Rettangolo 4" descr=""/>
          <p:cNvPicPr/>
          <p:nvPr/>
        </p:nvPicPr>
        <p:blipFill>
          <a:blip r:embed="rId2"/>
          <a:stretch/>
        </p:blipFill>
        <p:spPr>
          <a:xfrm>
            <a:off x="262080" y="2236680"/>
            <a:ext cx="45781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173160" y="234936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Book Antiqua"/>
              </a:rPr>
              <a:t>AMBIENTE 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Book Antiqua"/>
              </a:rPr>
              <a:t>PER LA FORM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Book Antiqua"/>
              </a:rPr>
              <a:t>DEI DOCENTI NEOASSU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Book Antiqua"/>
              </a:rPr>
              <a:t>CON CONTRATTO A TEMPO INDETERMIN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Book Antiqua"/>
              </a:rPr>
              <a:t>VALIDO PER L’ANNO DI PR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684360" y="15462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PRIMA ESPERIE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PUNTOEDU NEOASSUNTI 2001/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4360" y="2583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AMBIENTE PROGRESSIVAMENTE MIGLIORATO E UTILIZZATO P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24000" y="3500280"/>
            <a:ext cx="849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neoassunti 2002/2003, 2003/04, 2004/05 , 2005/06, … 201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formazione Progetto Nazionale di Sperimentazione (DM 100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formazione sulle TIC (CM 55/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corso/concorso Dirigenti Scolastici (2003/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formazione DM 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formazione Riforma (DL 59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formazione DSGA neoassu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formazione del Personale 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tangolo 1"/>
          <p:cNvSpPr/>
          <p:nvPr/>
        </p:nvSpPr>
        <p:spPr>
          <a:xfrm>
            <a:off x="324000" y="1628640"/>
            <a:ext cx="8424720" cy="47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Book Antiqua"/>
              </a:rPr>
              <a:t>NOVITÀ rispetto al pass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Book Antiqua"/>
              </a:rPr>
              <a:t>uniformità degli interventi formativi su base 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8000"/>
                </a:solidFill>
                <a:latin typeface="Book Antiqua"/>
              </a:rPr>
              <a:t>superamento della “lezione” dell’esp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Book Antiqua"/>
              </a:rPr>
              <a:t>non più temi ed argomenti rigidamente predef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8000"/>
                </a:solidFill>
                <a:latin typeface="Book Antiqua"/>
              </a:rPr>
              <a:t>costruzione di un percorso personalizzato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Book Antiqua"/>
              </a:rPr>
              <a:t>    </a:t>
            </a:r>
            <a:r>
              <a:rPr b="1" lang="it-IT" sz="2400" spc="-1" strike="noStrike">
                <a:solidFill>
                  <a:srgbClr val="008000"/>
                </a:solidFill>
                <a:latin typeface="Book Antiqua"/>
              </a:rPr>
              <a:t>personalizzabile da parte di ogni singolo cor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Book Antiqua"/>
              </a:rPr>
              <a:t>destrutturazione dei “temp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8000"/>
                </a:solidFill>
                <a:latin typeface="Book Antiqua"/>
              </a:rPr>
              <a:t>delocalizzaione individuale della fruibilità deg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Book Antiqua"/>
              </a:rPr>
              <a:t>    </a:t>
            </a:r>
            <a:r>
              <a:rPr b="1" lang="it-IT" sz="2400" spc="-1" strike="noStrike">
                <a:solidFill>
                  <a:srgbClr val="008000"/>
                </a:solidFill>
                <a:latin typeface="Book Antiqua"/>
              </a:rPr>
              <a:t>interventi form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4360" y="1413000"/>
            <a:ext cx="75596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MODELLO DI FORM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99"/>
                </a:solidFill>
                <a:latin typeface="Book Antiqua"/>
              </a:rPr>
              <a:t>“</a:t>
            </a:r>
            <a:r>
              <a:rPr b="1" lang="it-IT" sz="4000" spc="-1" strike="noStrike">
                <a:solidFill>
                  <a:srgbClr val="006699"/>
                </a:solidFill>
                <a:latin typeface="Book Antiqua"/>
              </a:rPr>
              <a:t>BLEND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99"/>
                </a:solidFill>
                <a:latin typeface="Book Antiqua"/>
              </a:rPr>
              <a:t>che prev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cc0000"/>
                </a:solidFill>
                <a:uFillTx/>
                <a:latin typeface="Book Antiqua"/>
              </a:rPr>
              <a:t>attività in presenza</a:t>
            </a:r>
            <a:r>
              <a:rPr b="1" lang="it-IT" sz="3200" spc="-1" strike="noStrike">
                <a:solidFill>
                  <a:srgbClr val="00669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cc0000"/>
                </a:solidFill>
                <a:uFillTx/>
                <a:latin typeface="Book Antiqua"/>
              </a:rPr>
              <a:t>attività on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www.aziendaisola.it/images/tavolo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573360"/>
            <a:ext cx="2057400" cy="211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www.inserire-annunci.com/adpics/anch_5C_io_lavoro_al_pc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4437000"/>
            <a:ext cx="1843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95280" y="1484280"/>
            <a:ext cx="8280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TEMPI E “CREDI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5219640" y="3070080"/>
            <a:ext cx="316872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539640" y="3070080"/>
            <a:ext cx="316872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9640" y="220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Book Antiqua"/>
              </a:rPr>
              <a:t>50 ORE DI 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68360" y="335772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25 OR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PRES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076720" y="3357720"/>
            <a:ext cx="33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Book Antiqua"/>
              </a:rPr>
              <a:t>25 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Book Antiqua"/>
              </a:rPr>
              <a:t>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8"/>
          <p:cNvCxnSpPr>
            <a:endCxn id="182" idx="5"/>
          </p:cNvCxnSpPr>
          <p:nvPr/>
        </p:nvCxnSpPr>
        <p:spPr>
          <a:xfrm rot="5400000">
            <a:off x="2857320" y="3240720"/>
            <a:ext cx="1813680" cy="1040760"/>
          </a:xfrm>
          <a:prstGeom prst="bentConnector3">
            <a:avLst>
              <a:gd name="adj1" fmla="val 12775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9"/>
          <p:cNvCxnSpPr>
            <a:endCxn id="181" idx="3"/>
          </p:cNvCxnSpPr>
          <p:nvPr/>
        </p:nvCxnSpPr>
        <p:spPr>
          <a:xfrm flipH="1" rot="16200000">
            <a:off x="4255920" y="3240720"/>
            <a:ext cx="1813680" cy="1040760"/>
          </a:xfrm>
          <a:prstGeom prst="bentConnector3">
            <a:avLst>
              <a:gd name="adj1" fmla="val 12775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250920" y="134136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Book Antiqua"/>
                <a:ea typeface="Arial Unicode MS"/>
              </a:rPr>
              <a:t>25 ORE IN PRES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39640" y="2492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3 ore: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ccogl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7 ore: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esentazione piattaforma, facilitazione d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ercorsi, </a:t>
            </a:r>
            <a:r>
              <a:rPr b="1" lang="en-US" sz="2400" spc="-1" strike="noStrike" u="sng">
                <a:solidFill>
                  <a:srgbClr val="376092"/>
                </a:solidFill>
                <a:uFillTx/>
                <a:latin typeface="Times New Roman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12 ore: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ttività a scelta dei corsisti a livello reg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vinciale e reti di scuole (es. partecip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emin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3 ore: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ntesi attività 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324000" y="1484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25 ORE ON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2421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Le ore on-line non hanno corrispond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alcuna con i tempi di connession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http://www.business.ikea.com/webimage/ProductMainImage/assets/catalog/volmar-sedia-ufficio-poggiatesta-braccioli__0133029_PE288094_S4.JP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76640"/>
            <a:ext cx="2125800" cy="223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1619280" y="3573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http://www.ilfoglio.it/media/uploads/2011/ragazzo_legge_giornale_poltron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2000" y="386064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6:09:15Z</dcterms:created>
  <dc:creator>amedeo</dc:creator>
  <dc:description/>
  <dc:language>en-US</dc:language>
  <cp:lastModifiedBy>M.I.U.R.</cp:lastModifiedBy>
  <dcterms:modified xsi:type="dcterms:W3CDTF">2013-03-27T15:00:35Z</dcterms:modified>
  <cp:revision>26</cp:revision>
  <dc:subject/>
  <dc:title>Diapositiva 1</dc:title>
</cp:coreProperties>
</file>