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E5A-34E9-442F-B6C7-E065E758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132-B508-4815-A855-24EAD684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FCC-8267-4F64-BB6D-F113C206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47C-7CA9-465A-8382-61954CC0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5B0-5BD3-4CF2-BF7E-135073C4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425-BD8E-4B43-99B9-087BC564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D17-333C-4704-91DC-74A8320C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46D-D8E4-4AD8-A2B3-6D14166D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C46-AF4E-4206-AD71-64D103DD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A68-6A0D-493E-B496-3E1AA96C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A72-4FEE-4424-AA3A-4E7DECED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DD7-5F4A-4DD2-8188-A94CDF1D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DC5F-00FB-4AA6-86E8-0705D10DA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08000" y="73080"/>
            <a:ext cx="8928000" cy="66690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0560" y="1197000"/>
            <a:ext cx="727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zione in ingresso per i docenti neo-assu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 scolastico 2012/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26701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ncontro provinciale di accoglie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top"/>
          <p:cNvPicPr/>
          <p:nvPr/>
        </p:nvPicPr>
        <p:blipFill>
          <a:blip r:embed="rId1"/>
          <a:stretch/>
        </p:blipFill>
        <p:spPr>
          <a:xfrm>
            <a:off x="4470480" y="193680"/>
            <a:ext cx="3486240" cy="571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orna alla home page del MIUR"/>
          <p:cNvPicPr/>
          <p:nvPr/>
        </p:nvPicPr>
        <p:blipFill>
          <a:blip r:embed="rId2"/>
          <a:stretch/>
        </p:blipFill>
        <p:spPr>
          <a:xfrm>
            <a:off x="1878120" y="193680"/>
            <a:ext cx="2590560" cy="571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72880" y="404640"/>
            <a:ext cx="15624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sally"/>
          <p:cNvPicPr/>
          <p:nvPr/>
        </p:nvPicPr>
        <p:blipFill>
          <a:blip r:embed="rId1"/>
          <a:stretch/>
        </p:blipFill>
        <p:spPr>
          <a:xfrm>
            <a:off x="2571840" y="2279520"/>
            <a:ext cx="4000320" cy="4029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971640" y="35100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Il portfolio del corsist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73080"/>
            <a:ext cx="8928000" cy="66690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PIPERITA"/>
          <p:cNvPicPr/>
          <p:nvPr/>
        </p:nvPicPr>
        <p:blipFill>
          <a:blip r:embed="rId1"/>
          <a:stretch/>
        </p:blipFill>
        <p:spPr>
          <a:xfrm>
            <a:off x="5791320" y="1916280"/>
            <a:ext cx="3028680" cy="374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611280" y="333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RTICOLAZIONE DEL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95280" y="213372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. AUTOPRESEN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354816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2. DOCUMENTAZIONE E RIFLE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08000" y="513252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 AUTOVALUTAZION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08000" y="73080"/>
            <a:ext cx="8928000" cy="66690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054160" y="333360"/>
            <a:ext cx="50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 AUTOPRESEN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ally5"/>
          <p:cNvPicPr/>
          <p:nvPr/>
        </p:nvPicPr>
        <p:blipFill>
          <a:blip r:embed="rId1"/>
          <a:stretch/>
        </p:blipFill>
        <p:spPr>
          <a:xfrm>
            <a:off x="6248520" y="1700280"/>
            <a:ext cx="2571480" cy="3413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95280" y="1197000"/>
            <a:ext cx="561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a42"/>
                </a:solidFill>
                <a:latin typeface="Arial"/>
              </a:rPr>
              <a:t>LA MIA S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mio percorso di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urriculum di studi, eventuali master, corsi di perfezionamento, corsi di formazione e aggiornamento, letture e studi particolarmente importanti, ec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mie esperienze professionali precedenti al c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ttività di insegnamento, altre eventuali esperienze professionali significative, ec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a42"/>
                </a:solidFill>
                <a:latin typeface="Arial"/>
              </a:rPr>
              <a:t>IL MIO PROFILO PROFESS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ia “filosofia d’insegnament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I miei valori, le mie convinzioni professionali, le mie finalità, ec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mie competenze professionali: punti di forza e punti di debole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osa ritengo di saper fare bene e in cosa ritengo di dover migliorar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08000" y="73080"/>
            <a:ext cx="8928000" cy="66690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IPERITA1"/>
          <p:cNvPicPr/>
          <p:nvPr/>
        </p:nvPicPr>
        <p:blipFill>
          <a:blip r:embed="rId1"/>
          <a:stretch/>
        </p:blipFill>
        <p:spPr>
          <a:xfrm>
            <a:off x="5091120" y="2114640"/>
            <a:ext cx="3801960" cy="270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96720" y="33336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. DOCUMENTAZIONE E RIFLES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22200" y="1273320"/>
            <a:ext cx="511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a42"/>
                </a:solidFill>
                <a:latin typeface="Arial"/>
              </a:rPr>
              <a:t>Documen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uardanti i seminari, le attività in piattaforma e a scuola come, ad esemp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ucidi, appunti, mappe concettual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ferimenti a testi let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dotti individuali o di gruppo di laboratorio e/o di tirocinio indiret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ività e/o interventi in piattafor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getti o attività particolari svolte a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ciascun documento inserito vengono inseri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ff4a42"/>
                </a:solidFill>
                <a:latin typeface="Arial"/>
              </a:rPr>
              <a:t>presentazi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 la descrizione del contesto in cui è avvenuta l’esperienz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ff4a42"/>
                </a:solidFill>
                <a:latin typeface="Arial"/>
              </a:rPr>
              <a:t>motivazi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la scelta di inserire quel materiale, con riferimenti agli apprendimenti che esso ha favorito nel cors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8000" y="73080"/>
            <a:ext cx="8928000" cy="66690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96720" y="33336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. AUTOVALU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93840" y="1695600"/>
            <a:ext cx="4249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lazione all’autopresentazione iniziale il corsista indica le </a:t>
            </a:r>
            <a:r>
              <a:rPr b="0" lang="en-US" sz="2000" spc="-1" strike="noStrike">
                <a:solidFill>
                  <a:srgbClr val="ff4a42"/>
                </a:solidFill>
                <a:latin typeface="Arial"/>
              </a:rPr>
              <a:t>nuove competenze acquis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quelle </a:t>
            </a:r>
            <a:r>
              <a:rPr b="0" lang="en-US" sz="2000" spc="-1" strike="noStrike">
                <a:solidFill>
                  <a:srgbClr val="ff4a42"/>
                </a:solidFill>
                <a:latin typeface="Arial"/>
              </a:rPr>
              <a:t>migliorate/potenzi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le eventuali cattive prassi </a:t>
            </a:r>
            <a:r>
              <a:rPr b="0" lang="en-US" sz="2000" spc="-1" strike="noStrike">
                <a:solidFill>
                  <a:srgbClr val="ff4a42"/>
                </a:solidFill>
                <a:latin typeface="Arial"/>
              </a:rPr>
              <a:t>ridimension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2000" spc="-1" strike="noStrike">
                <a:solidFill>
                  <a:srgbClr val="ff4a42"/>
                </a:solidFill>
                <a:latin typeface="Arial"/>
              </a:rPr>
              <a:t>rimos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iferimento poi alla propria professionalità il corsista indica anche quali competenze ritiene di </a:t>
            </a:r>
            <a:r>
              <a:rPr b="0" lang="en-US" sz="2000" spc="-1" strike="noStrike">
                <a:solidFill>
                  <a:srgbClr val="ff4a42"/>
                </a:solidFill>
                <a:latin typeface="Arial"/>
              </a:rPr>
              <a:t>non padroneggiare anco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4a42"/>
                </a:solidFill>
                <a:latin typeface="Arial"/>
              </a:rPr>
              <a:t>completame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che il percorso non ha sufficientemente sostenu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IPERITA2"/>
          <p:cNvPicPr/>
          <p:nvPr/>
        </p:nvPicPr>
        <p:blipFill>
          <a:blip r:embed="rId1"/>
          <a:stretch/>
        </p:blipFill>
        <p:spPr>
          <a:xfrm>
            <a:off x="5176800" y="1716120"/>
            <a:ext cx="3703680" cy="3873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08000" y="73080"/>
            <a:ext cx="8928000" cy="66690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magine 1" descr="Levi_primo.jpg"/>
          <p:cNvPicPr/>
          <p:nvPr/>
        </p:nvPicPr>
        <p:blipFill>
          <a:blip r:embed="rId1"/>
          <a:stretch/>
        </p:blipFill>
        <p:spPr>
          <a:xfrm>
            <a:off x="2174760" y="2727360"/>
            <a:ext cx="4826160" cy="284472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3"/>
          <p:cNvSpPr/>
          <p:nvPr/>
        </p:nvSpPr>
        <p:spPr>
          <a:xfrm>
            <a:off x="714240" y="5684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Calibri"/>
                <a:ea typeface="Arial"/>
              </a:rPr>
              <a:t>PRIMO LE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08000" y="73080"/>
            <a:ext cx="8928000" cy="66690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magine 2" descr="p031_1_07.jpg"/>
          <p:cNvPicPr/>
          <p:nvPr/>
        </p:nvPicPr>
        <p:blipFill>
          <a:blip r:embed="rId1"/>
          <a:stretch/>
        </p:blipFill>
        <p:spPr>
          <a:xfrm>
            <a:off x="2030400" y="2428920"/>
            <a:ext cx="5041800" cy="3962520"/>
          </a:xfrm>
          <a:prstGeom prst="rect">
            <a:avLst/>
          </a:prstGeom>
          <a:ln w="0">
            <a:noFill/>
          </a:ln>
        </p:spPr>
      </p:pic>
      <p:sp>
        <p:nvSpPr>
          <p:cNvPr id="72" name="CasellaDiTesto 3"/>
          <p:cNvSpPr/>
          <p:nvPr/>
        </p:nvSpPr>
        <p:spPr>
          <a:xfrm>
            <a:off x="714240" y="5000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Calibri"/>
                <a:ea typeface="Arial"/>
              </a:rPr>
              <a:t>LA CHIAVE A ST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4"/>
          <p:cNvSpPr/>
          <p:nvPr/>
        </p:nvSpPr>
        <p:spPr>
          <a:xfrm>
            <a:off x="755640" y="2128680"/>
            <a:ext cx="7643880" cy="411732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l termine “libertà” ha notoriamente molti sensi, ma forse il tipo di libertà più accessibile, più goduto soggettivamente, e più utile al consorzio umano, coincide con l’essere competenti nel proprio lavoro, e quindi nel provare piacere a svolgerl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Se si escludono istanti prodigiosi e singoli che il destino ci può donare, l'amare il proprio lavoro (che purtroppo è privilegio di pochi) costituisce la migliore approssimazione concreta alla felicità sulla terra: ma questa è una verità che non molti conoscono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08000" y="73080"/>
            <a:ext cx="8928000" cy="66690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3:09:05Z</dcterms:created>
  <dc:creator>e.dorazio</dc:creator>
  <dc:description/>
  <dc:language>en-US</dc:language>
  <cp:lastModifiedBy>M.I.U.R.</cp:lastModifiedBy>
  <dcterms:modified xsi:type="dcterms:W3CDTF">2013-03-27T15:01:45Z</dcterms:modified>
  <cp:revision>8</cp:revision>
  <dc:subject/>
  <dc:title>Diapositiva 1</dc:title>
</cp:coreProperties>
</file>