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44b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D9A0-AE8F-4919-B9B1-C826E84308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9218-9E51-48A5-BAA6-034B348D90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1FF-65AE-4C20-90C3-0BB51C7145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911-5969-400B-9CDF-81F3F79709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FC66-5ECC-4ADB-9A00-5AE2995061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06B9-2424-4459-82B4-D08D09C365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919-E809-4124-9DB8-6472EA08E8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A2C-7A3F-4E11-8D27-CC5C923153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0668-1BDA-4891-A0E2-B475D9B0B0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42B-3D11-4CD6-A212-3F2F849F55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44B-E70E-4BD1-83D6-76D9315733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77D-97E8-4B2D-9612-ED30C4543C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A0B-6731-4BC6-B39F-186C29AD9B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3A8B-6DA2-4589-A5CD-42CB5D4ED4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8DDD-6FBE-403B-B6FC-4B0F34C9B6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84DB-F396-421F-B20E-86DE5F4698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94D-13A4-4D10-96AC-516AE184FA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104B-5E6C-4320-8D81-60563E734A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4B8-A894-407F-B069-1FA282B63B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409-37DB-4B2D-8653-A9F1F81AB91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D515-BA20-4E38-9B47-69197F650E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651-E0F9-49B2-8D2B-C154C9F4A6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1B5C-BE7C-4A82-82B4-D45BAC410F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076-CF8F-45BF-A934-D724FFD9B7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6757-6C50-4725-A569-5B692C8A2B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544F-EE77-409F-AF8F-F7967015C8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BE6-10C6-410E-AD82-99E6F1C1F8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395F-2F5F-4DEE-AFAE-339C65FE0F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7B26-A865-4312-BC7A-13768FF14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D76D-1F7D-46F4-825C-34AF048F5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4BCB-DC9D-465A-9B15-CA5896A33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E5CA-F0B2-43AF-9AFE-6AE8D46EC4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C5F2-AB8C-43D7-B960-9D7F4D4A7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16ED-A02C-4398-895D-6CBD80ABE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6D0D-53F0-4E54-B3C0-3A076412B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DE72-C78C-4A44-B578-8BF15BA927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A624-B25D-44A2-9A38-F9FC76B59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391E-4FBE-46A4-BD70-8D0D7D4EA9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DAC3-92D3-44EC-8BC4-633ADE64D2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BBB0-E50A-4FD6-963D-A888C99584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30CB-7B8C-4042-877B-BF8034024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B8D4-928A-4F6B-AC8E-EC3A950CC9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2CEB-BCB5-461A-9DB7-41FE834A52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0F18-52B9-4CDA-B858-3869088D8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1805-90F7-4B2B-B0A0-A2E8638107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B712-4340-4226-854C-103ADE4144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2DEF-F0B2-45AD-BD27-997A644751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B643-2E23-418F-A4DE-61119C44AA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7FCB-CE64-4936-AECD-0210A9CA11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E292-48B2-4B11-84D5-6571C7D867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F820-28C4-4E69-86FA-3D55845919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D95-9FD4-4661-85D0-045B826B1D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938-621E-4282-A550-E7B865452D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5C0-B6D8-44EF-B72A-DED5188EF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27F-D238-40BE-BE68-71200A10FE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DD1-A6F1-4DCC-9655-2951FB4B29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233-CC4F-4D11-85C3-1D5A821719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03A-84BA-45B3-AA6D-69649A1A40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88F-E31B-4B12-9CD3-733004ABDC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D46-8E23-4E87-82D9-F2D1DD8ABB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36C-DA89-42D8-B82D-57CF5FC1D3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591-5ADA-4DF2-BF60-B6A08A9E26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DFC-3874-4751-970A-120C8500B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44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La nuova convenzione di cas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La gestione delle graduatorie e il conferimento delle supplenze nelle I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44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250920" y="6237000"/>
            <a:ext cx="7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A92-0F6E-4873-AA64-EC06EECA57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44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250920" y="6237000"/>
            <a:ext cx="7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E655-CF99-459D-8454-2184FAB6B9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La gestione delle graduatorie e il conferimento delle supplenze nelle I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olo 1"/>
          <p:cNvSpPr/>
          <p:nvPr/>
        </p:nvSpPr>
        <p:spPr>
          <a:xfrm>
            <a:off x="3851280" y="6507000"/>
            <a:ext cx="506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44b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3"/>
          </p:nvPr>
        </p:nvSpPr>
        <p:spPr>
          <a:xfrm>
            <a:off x="250920" y="6237000"/>
            <a:ext cx="7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2089-F7E1-44D6-B3FA-EA83D53084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Dcsgrt2k3/Utenti/donatella.damico/Downloads/norme/art6_DM%20131-07.docx" TargetMode="External"/><Relationship Id="rId3" Type="http://schemas.openxmlformats.org/officeDocument/2006/relationships/hyperlink" Target="file://Dcsgrt2k3/Utenti/donatella.damico/Downloads/norme/art4_c11_DM%2062-11.docx" TargetMode="External"/><Relationship Id="rId4" Type="http://schemas.openxmlformats.org/officeDocument/2006/relationships/hyperlink" Target="file://Dcsgrt2k3/Utenti/donatella.damico/Downloads/norme/6677-12_sostegno.docx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Dcsgrt2k3/Utenti/donatella.damico/Downloads/norme/art7_c3_131-07.doc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Dcsgrt2k3/Utenti/donatella.damico/Downloads/norme/art1_c1bis_L143-04.doc" TargetMode="External"/><Relationship Id="rId3" Type="http://schemas.openxmlformats.org/officeDocument/2006/relationships/hyperlink" Target="file://Dcsgrt2k3/Utenti/donatella.damico/Downloads/norme/L167-09_art1_c4quin.doc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Dcsgrt2k3/Utenti/donatella.damico/Downloads/norme/art5bis_L169-08.doc" TargetMode="External"/><Relationship Id="rId3" Type="http://schemas.openxmlformats.org/officeDocument/2006/relationships/hyperlink" Target="file://Dcsgrt2k3/Utenti/donatella.damico/Downloads/norme/art3ter_L143-04.doc" TargetMode="External"/><Relationship Id="rId4" Type="http://schemas.openxmlformats.org/officeDocument/2006/relationships/hyperlink" Target="file://Dcsgrt2k3/Utenti/donatella.damico/Downloads/norme/DGPER4587_14.06.12_acc_DM53.docx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Dcsgrt2k3/Utenti/donatella.damico/Downloads/norme/art5_c5-7_dm131-07.doc" TargetMode="External"/><Relationship Id="rId3" Type="http://schemas.openxmlformats.org/officeDocument/2006/relationships/hyperlink" Target="file://Dcsgrt2k3/Utenti/donatella.damico/Downloads/norme/art7_c7_dm131-07.doc" TargetMode="External"/><Relationship Id="rId4" Type="http://schemas.openxmlformats.org/officeDocument/2006/relationships/hyperlink" Target="file://Dcsgrt2k3/Utenti/donatella.damico/Downloads/norme/art.1_c4_DM%2062-11.docx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1628640"/>
            <a:ext cx="748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244b"/>
                </a:solidFill>
                <a:latin typeface="Garamond"/>
              </a:rPr>
              <a:t>“</a:t>
            </a:r>
            <a:r>
              <a:rPr b="1" lang="it-IT" sz="2800" spc="-1" strike="noStrike">
                <a:solidFill>
                  <a:srgbClr val="00244b"/>
                </a:solidFill>
                <a:latin typeface="Garamond"/>
              </a:rPr>
              <a:t>La gestione delle graduatorie e il conferimento delle supplenze nelle Istituzioni scolastich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Garamond"/>
              </a:rPr>
              <a:t>Normativa di riferimento e casi pratici su personale docente e 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800" spc="-1" strike="noStrike">
                <a:solidFill>
                  <a:srgbClr val="333333"/>
                </a:solidFill>
                <a:latin typeface="Edwardian Script ITC"/>
              </a:rPr>
              <a:t>Luca Volo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.2 GRADUATORIE DI ISTIT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ima fas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toli di access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uttu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lazione con GaE sulla prov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conda fascia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toli di ac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terza fas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toli di accesso (art. 2, DM 62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.3 ELENCHI DI SOSTE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lità: elenco e non gradu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nchi degli specializzati 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t. 6, DM 131/0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nuovo approccio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t. 4, c. 11, DM 6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nchi dei non speci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cquisizione dei titoli conseguiti tardivamente 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ota 6677/1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2 -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1 TIPOLOGIA DI SUPPL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annuali e fino al termine delle attività didattiche: fondamenti della disti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brevi e saltuarie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er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no a 10 gior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stituzioni interne (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t. 7, c. 3, DM 131/07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stione degli spezzoni fino a 6 ore (art. 1, c. 4, DM 13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2 -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2 MODALITA’ DI SCOR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etenza sulle 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“standard” sulle diverse tipologie di supplen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so particolare ex art. 36 CC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di graduatorie già utilizzate a livello territoriale (art. 3, c. 4, DM 131/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con personale già parzialmente impegnato (art. 4, DM 13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2 -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2 MODALITA’ DI SCOR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cato scorrimento: proroghe e conferme (art. 7, c. 4 s., DM 13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alità di interpello (art. 11, DM 62/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he e controlli (art. 7, c. 4 e ss., DM 62/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2 -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3 DURATA DEI CONTRA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“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roghe o conferme (vd.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eriodi di sospensione dell’attività didattica (art. 40, CCNL 29/1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su posti vacanti dopo il 3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entri dopo il 30 aprile (art. 37, CCNL 29/1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-time (art. 25, c. 6, CCNL 29/1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2 -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4 SANZIONI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 8, DM 131/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cata accettazione della propo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cata presa di serv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andono di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roghe al regime sanzion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3 – Casi pratici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e di individu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3 – Casi pratici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ARTE SECONDA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NTESI DEGLI ARGOMENTI TRAT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ologie di gradu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1 graduatorie perman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2 graduatorie/elenchi ad esau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3 graduatorie di istit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o delle graduat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1 tipologia di suppl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2 modalità di scor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3 durata dei contr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4 sa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stituzione del DS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udio di casi pra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PREMESSA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utturazione generale de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iteri di approccio alla ma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mogeneità di impos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nduzione a sistema di elementi disomoge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ARTE SECONDA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rmativa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mento supplenze personale 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creto ministeriale 13 dicembre 2000, n. 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 amministr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ta 12 settembre 2012, prot. DGPER 66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duatorie perman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dro normativo (art. 4, c. 11, L 124/99; art. 554 T.U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quisiti di ammi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duatorie/elenchi ad esaurimento (art. 1, c. 4, DM 430/00; art. 2, c. 1, DM 430/0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duatorie di istituto (art. 5, c. 3, DM 430/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ima fascia: titoli di accesso e durata (art. 5, c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conda fascia: titoli di accesso e du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terza fascia: titoli di accesso e novità contrattuali (CCNL 29/11/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2 –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1 TIPOLOGIA DI SUPPL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annuali e fino al termine delle attività didattiche: fondamenti della disti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brevi e saltu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ologie di assenza del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2 –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2 MODALITA’ DI SCOR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“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so particolare ex art. 59 CCNL 29/11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di graduatorie già utilizzate a livello territoriale (art. 3, c. 2, DM 430/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orrimento con personale già parzialmente impegnato (art. 4, DM 430/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2 –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3 DURATA DEI CONTRA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“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roghe (art. 1, c. 7, DM 430/00; art. 6, c. 4, DM 430/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lenze su posti vacanti dopo il 3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2 – utilizzo delle graduatori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2.4 SANZIO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 7, DM 430/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nuncia a una proposta o mancata assunzione di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andono di serviz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roghe al regime sanzion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3 – sostituzione del DSG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colarità del profilo (art. 1, c. 2, DM 430/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stituzione annuale (art. 14, CCNI 28 agosto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stituzione temporanea (art. 56, c. 4, CCNL 29/11/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tituti “sottodimensiona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ATA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 4 – studio di casi pratici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po 18"/>
          <p:cNvGrpSpPr/>
          <p:nvPr/>
        </p:nvGrpSpPr>
        <p:grpSpPr>
          <a:xfrm>
            <a:off x="0" y="0"/>
            <a:ext cx="8604360" cy="1413000"/>
            <a:chOff x="0" y="0"/>
            <a:chExt cx="8604360" cy="1413000"/>
          </a:xfrm>
        </p:grpSpPr>
        <p:sp>
          <p:nvSpPr>
            <p:cNvPr id="220" name="Rettangolo 1"/>
            <p:cNvSpPr/>
            <p:nvPr/>
          </p:nvSpPr>
          <p:spPr>
            <a:xfrm>
              <a:off x="0" y="0"/>
              <a:ext cx="539640" cy="1413000"/>
            </a:xfrm>
            <a:prstGeom prst="rect">
              <a:avLst/>
            </a:prstGeom>
            <a:solidFill>
              <a:srgbClr val="00244b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Connettore 1 3"/>
            <p:cNvSpPr/>
            <p:nvPr/>
          </p:nvSpPr>
          <p:spPr>
            <a:xfrm>
              <a:off x="539640" y="1413000"/>
              <a:ext cx="8064720" cy="0"/>
            </a:xfrm>
            <a:prstGeom prst="line">
              <a:avLst/>
            </a:prstGeom>
            <a:ln w="50760">
              <a:solidFill>
                <a:srgbClr val="006a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Immagine 6" descr="immagine_cartella.png"/>
            <p:cNvPicPr/>
            <p:nvPr/>
          </p:nvPicPr>
          <p:blipFill>
            <a:blip r:embed="rId2"/>
            <a:srcRect l="0" t="0" r="0" b="3944"/>
            <a:stretch/>
          </p:blipFill>
          <p:spPr>
            <a:xfrm>
              <a:off x="539280" y="0"/>
              <a:ext cx="10249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ttangolo 7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244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po 16"/>
          <p:cNvGrpSpPr/>
          <p:nvPr/>
        </p:nvGrpSpPr>
        <p:grpSpPr>
          <a:xfrm>
            <a:off x="8604360" y="6165720"/>
            <a:ext cx="0" cy="547920"/>
            <a:chOff x="8604360" y="6165720"/>
            <a:chExt cx="0" cy="547920"/>
          </a:xfrm>
        </p:grpSpPr>
        <p:sp>
          <p:nvSpPr>
            <p:cNvPr id="225" name="Connettore 1 14"/>
            <p:cNvSpPr/>
            <p:nvPr/>
          </p:nvSpPr>
          <p:spPr>
            <a:xfrm>
              <a:off x="8604360" y="6426000"/>
              <a:ext cx="0" cy="287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Connettore 1 15"/>
            <p:cNvSpPr/>
            <p:nvPr/>
          </p:nvSpPr>
          <p:spPr>
            <a:xfrm>
              <a:off x="8604360" y="6165720"/>
              <a:ext cx="0" cy="287640"/>
            </a:xfrm>
            <a:prstGeom prst="line">
              <a:avLst/>
            </a:prstGeom>
            <a:ln w="50760">
              <a:solidFill>
                <a:srgbClr val="006a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Immagine 17" descr="logo_italiascuola.png"/>
          <p:cNvPicPr/>
          <p:nvPr/>
        </p:nvPicPr>
        <p:blipFill>
          <a:blip r:embed="rId3"/>
          <a:stretch/>
        </p:blipFill>
        <p:spPr>
          <a:xfrm>
            <a:off x="7093080" y="6237360"/>
            <a:ext cx="1412640" cy="183960"/>
          </a:xfrm>
          <a:prstGeom prst="rect">
            <a:avLst/>
          </a:prstGeom>
          <a:ln w="0">
            <a:noFill/>
          </a:ln>
        </p:spPr>
      </p:pic>
      <p:sp>
        <p:nvSpPr>
          <p:cNvPr id="228" name="CasellaDiTesto 20"/>
          <p:cNvSpPr/>
          <p:nvPr/>
        </p:nvSpPr>
        <p:spPr>
          <a:xfrm>
            <a:off x="5292720" y="6524640"/>
            <a:ext cx="331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146160" y="3284640"/>
            <a:ext cx="89978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33"/>
                </a:solidFill>
                <a:latin typeface="Edwardian Script ITC"/>
                <a:ea typeface="ＭＳ Ｐゴシック"/>
              </a:rPr>
              <a:t>Luca Volo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916360" y="4149720"/>
            <a:ext cx="3025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aaf"/>
                </a:solidFill>
                <a:latin typeface="Arial"/>
              </a:rPr>
              <a:t>Per info e comunicazioni:</a:t>
            </a:r>
            <a:br>
              <a:rPr sz="1400"/>
            </a:br>
            <a:r>
              <a:rPr b="1" lang="en-GB" sz="1400" spc="-1" strike="noStrike">
                <a:solidFill>
                  <a:srgbClr val="006aaf"/>
                </a:solidFill>
                <a:latin typeface="Arial"/>
              </a:rPr>
              <a:t>info@italiascuola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aaf"/>
                </a:solidFill>
                <a:latin typeface="Arial"/>
              </a:rPr>
              <a:t>www.italiascuola.i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Garamond"/>
              </a:rPr>
              <a:t>INTRODUZIONE GENERALE</a:t>
            </a:r>
            <a:endParaRPr b="0" lang="en-US" sz="44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roccio pubblicistico vs. privat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evoluzione del concetto di pubblica amminist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asparenza / efficienza, efficacia, economicità: il “mito” del priv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ivatizzazione del pubblico impi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imi anni ’90 (D. legisl. 29/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ine anni ’90: federalismo a costituzione invariata (D. legisl 165/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gge Brunett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raddizioni concettuali e terminolog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rme complessive funzionali alla nascita dell’autonomia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21, L 59/97; D.P.R. 275/99; DM 234/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. legisl. 112/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ascita UUSS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gregazione dello schema “parte datoriale – OO.S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 delle supplenze come operazione resid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ARTE PRIMA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ESI DEGLI ARGOMENTI TRAT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logie di gradu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1 graduatorie ad esau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2 graduatorie di istit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3 elenchi di sost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elle gradua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1 tipologia di suppl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2 modalità di scorr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3 durata dei contr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4 sa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udio di casi pra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ARTE PRIMA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rmativa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mento supplenze personale do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creto ministeriale 13 giugno 2007, n. 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 amministr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1 Decreto ministeriale 12 maggio 2011, n.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2 Decreto ministeriale 13 luglio 2011, n. 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3 Nota 12 settembre 2012, prot. DGPER 66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.1 GRADUATORIE AD ESAU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lle graduatorie permanenti alle 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ttura attuale delle 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lità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arichi TI e T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a della provi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ifestazione di volontà (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t. 1, c. 1 bis, L. 143/04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cellazione docenti I.T.I. (</a:t>
            </a: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t. 1, c. 4 quinquies, L. 167/09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erve ex L. 68/99 e precedenze ex L. 104/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1.1 GRADUATORIE AD ESAU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fasc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i di acc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pia provi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a fas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i di ac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.1 GRADUATORIE AD ESAU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rza fascia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toli di acc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ccesso dopo il 2007: (iscrizioni con riserva;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t. 5 bis, L. 169/08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t. 3 ter, L. 143/04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scia aggiuntiv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DM 53/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ologie di personale (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ota 4587/1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PERSONALE DOCENT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Garamond"/>
              </a:rPr>
              <a:t>1 - tipologie di graduatoria</a:t>
            </a:r>
            <a:endParaRPr b="0" lang="en-US" sz="4000" spc="-1" strike="noStrike">
              <a:solidFill>
                <a:srgbClr val="00244b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.2 GRADUATORIE DI ISTIT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mero di scuole 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t. 5, cc. 6 e 7, DM 131/0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pello breve 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t. 7, c. 7, DM 131/07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efficacia dei titoli di riserva 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t. 1, c. 4, DM 62/1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1:27:51Z</dcterms:created>
  <dc:creator>Ambrosi</dc:creator>
  <dc:description/>
  <dc:language>en-US</dc:language>
  <cp:lastModifiedBy>Ist. Manthonè</cp:lastModifiedBy>
  <dcterms:modified xsi:type="dcterms:W3CDTF">2013-04-08T14:21:25Z</dcterms:modified>
  <cp:revision>56</cp:revision>
  <dc:subject/>
  <dc:title>Diapositiva 1</dc:title>
</cp:coreProperties>
</file>